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AFE-7E5F-4568-970F-604164C0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249-B7BF-4058-AE58-E2CDC017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84A-3E96-486C-83C9-4FD460C7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614-B9AA-4096-B6E8-611C02EC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89D-18D6-4C1D-AC7B-2E9E8744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460-8F7C-4443-9807-3DB86AEB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474-8A2B-4F5F-84B8-1027897F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855-B8B6-4C8E-B6E2-DA18FD1E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623-518D-4214-B1DE-59BC5EDE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644-1F07-4D74-BE91-B7E8F194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528-BDAA-4383-ABBE-7A0EB297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559-4182-480E-A017-DCD1C3E9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A1D4-7BC8-459E-9F81-746ACDE3F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6.png"/><Relationship Id="rId12" Type="http://schemas.openxmlformats.org/officeDocument/2006/relationships/image" Target="../media/image15.png"/><Relationship Id="rId13" Type="http://schemas.openxmlformats.org/officeDocument/2006/relationships/image" Target="../media/image13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23760" y="4448160"/>
            <a:ext cx="1209960" cy="18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6002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0000"/>
                </a:solidFill>
                <a:latin typeface="Arial Rounded MT Bold"/>
              </a:rPr>
              <a:t>Watch the animals and choose ‘True’ or ‘False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488880" y="222552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228600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STAR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3048120" y="5562720"/>
            <a:ext cx="1752480" cy="9777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600200" y="3657600"/>
            <a:ext cx="5637600" cy="2674440"/>
            <a:chOff x="1600200" y="3657600"/>
            <a:chExt cx="5637600" cy="2674440"/>
          </a:xfrm>
        </p:grpSpPr>
        <p:grpSp>
          <p:nvGrpSpPr>
            <p:cNvPr id="53" name=""/>
            <p:cNvGrpSpPr/>
            <p:nvPr/>
          </p:nvGrpSpPr>
          <p:grpSpPr>
            <a:xfrm>
              <a:off x="1600200" y="3657600"/>
              <a:ext cx="5637600" cy="2674440"/>
              <a:chOff x="1600200" y="3657600"/>
              <a:chExt cx="5637600" cy="267444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600200" y="3657600"/>
                <a:ext cx="5637600" cy="2674440"/>
                <a:chOff x="1600200" y="3657600"/>
                <a:chExt cx="5637600" cy="267444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600200" y="3657600"/>
                  <a:ext cx="5637600" cy="2674440"/>
                  <a:chOff x="1600200" y="3657600"/>
                  <a:chExt cx="5637600" cy="267444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2033640" y="3946680"/>
                    <a:ext cx="794880" cy="1662480"/>
                  </a:xfrm>
                  <a:prstGeom prst="rect">
                    <a:avLst/>
                  </a:prstGeom>
                  <a:solidFill>
                    <a:srgbClr val="99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1600200" y="3657600"/>
                    <a:ext cx="5637600" cy="2674440"/>
                    <a:chOff x="1600200" y="3657600"/>
                    <a:chExt cx="5637600" cy="2674440"/>
                  </a:xfrm>
                </p:grpSpPr>
                <p:grpSp>
                  <p:nvGrpSpPr>
                    <p:cNvPr id="58" name=""/>
                    <p:cNvGrpSpPr/>
                    <p:nvPr/>
                  </p:nvGrpSpPr>
                  <p:grpSpPr>
                    <a:xfrm>
                      <a:off x="1600200" y="3657600"/>
                      <a:ext cx="4626360" cy="2674440"/>
                      <a:chOff x="1600200" y="3657600"/>
                      <a:chExt cx="4626360" cy="2674440"/>
                    </a:xfrm>
                  </p:grpSpPr>
                  <p:sp>
                    <p:nvSpPr>
                      <p:cNvPr id="59" name=""/>
                      <p:cNvSpPr/>
                      <p:nvPr/>
                    </p:nvSpPr>
                    <p:spPr>
                      <a:xfrm>
                        <a:off x="2612160" y="365760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" name=""/>
                      <p:cNvSpPr/>
                      <p:nvPr/>
                    </p:nvSpPr>
                    <p:spPr>
                      <a:xfrm>
                        <a:off x="2033640" y="5392440"/>
                        <a:ext cx="4192920" cy="505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" name=""/>
                      <p:cNvSpPr/>
                      <p:nvPr/>
                    </p:nvSpPr>
                    <p:spPr>
                      <a:xfrm>
                        <a:off x="2106000" y="4886280"/>
                        <a:ext cx="1806840" cy="7228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" name=""/>
                      <p:cNvSpPr/>
                      <p:nvPr/>
                    </p:nvSpPr>
                    <p:spPr>
                      <a:xfrm rot="15663600">
                        <a:off x="2034360" y="3479040"/>
                        <a:ext cx="578160" cy="1154880"/>
                      </a:xfrm>
                      <a:prstGeom prst="flowChartDelay">
                        <a:avLst/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" name=""/>
                      <p:cNvSpPr/>
                      <p:nvPr/>
                    </p:nvSpPr>
                    <p:spPr>
                      <a:xfrm>
                        <a:off x="1600200" y="372996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4" name=""/>
                      <p:cNvGrpSpPr/>
                      <p:nvPr/>
                    </p:nvGrpSpPr>
                    <p:grpSpPr>
                      <a:xfrm>
                        <a:off x="1750680" y="3913560"/>
                        <a:ext cx="1909800" cy="1020600"/>
                        <a:chOff x="1750680" y="3913560"/>
                        <a:chExt cx="1909800" cy="1020600"/>
                      </a:xfrm>
                    </p:grpSpPr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1750680" y="3913560"/>
                          <a:ext cx="1909800" cy="102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8" h="678">
                              <a:moveTo>
                                <a:pt x="764" y="646"/>
                              </a:moveTo>
                              <a:cubicBezTo>
                                <a:pt x="708" y="662"/>
                                <a:pt x="516" y="678"/>
                                <a:pt x="428" y="646"/>
                              </a:cubicBezTo>
                              <a:cubicBezTo>
                                <a:pt x="340" y="614"/>
                                <a:pt x="292" y="502"/>
                                <a:pt x="236" y="454"/>
                              </a:cubicBezTo>
                              <a:cubicBezTo>
                                <a:pt x="180" y="406"/>
                                <a:pt x="176" y="386"/>
                                <a:pt x="92" y="358"/>
                              </a:cubicBezTo>
                              <a:cubicBezTo>
                                <a:pt x="0" y="330"/>
                                <a:pt x="45" y="309"/>
                                <a:pt x="140" y="262"/>
                              </a:cubicBezTo>
                              <a:cubicBezTo>
                                <a:pt x="195" y="217"/>
                                <a:pt x="364" y="108"/>
                                <a:pt x="422" y="90"/>
                              </a:cubicBezTo>
                              <a:cubicBezTo>
                                <a:pt x="475" y="72"/>
                                <a:pt x="580" y="58"/>
                                <a:pt x="742" y="0"/>
                              </a:cubicBezTo>
                              <a:cubicBezTo>
                                <a:pt x="768" y="20"/>
                                <a:pt x="800" y="42"/>
                                <a:pt x="860" y="70"/>
                              </a:cubicBezTo>
                              <a:cubicBezTo>
                                <a:pt x="920" y="98"/>
                                <a:pt x="1044" y="134"/>
                                <a:pt x="1100" y="166"/>
                              </a:cubicBezTo>
                              <a:cubicBezTo>
                                <a:pt x="1156" y="198"/>
                                <a:pt x="1180" y="230"/>
                                <a:pt x="1196" y="262"/>
                              </a:cubicBezTo>
                              <a:cubicBezTo>
                                <a:pt x="1212" y="294"/>
                                <a:pt x="1268" y="310"/>
                                <a:pt x="1196" y="358"/>
                              </a:cubicBezTo>
                              <a:cubicBezTo>
                                <a:pt x="1124" y="406"/>
                                <a:pt x="836" y="494"/>
                                <a:pt x="764" y="550"/>
                              </a:cubicBezTo>
                              <a:cubicBezTo>
                                <a:pt x="692" y="606"/>
                                <a:pt x="820" y="630"/>
                                <a:pt x="764" y="646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9900"/>
                            </a:gs>
                            <a:gs pos="50000">
                              <a:srgbClr val="ffff99"/>
                            </a:gs>
                            <a:gs pos="100000">
                              <a:srgbClr val="ff9900"/>
                            </a:gs>
                          </a:gsLst>
                          <a:lin ang="5400000"/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>
                          <a:off x="2178000" y="4307760"/>
                          <a:ext cx="557280" cy="50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36">
                              <a:moveTo>
                                <a:pt x="370" y="330"/>
                              </a:moveTo>
                              <a:cubicBezTo>
                                <a:pt x="282" y="0"/>
                                <a:pt x="176" y="176"/>
                                <a:pt x="0" y="142"/>
                              </a:cubicBezTo>
                              <a:cubicBezTo>
                                <a:pt x="28" y="190"/>
                                <a:pt x="102" y="227"/>
                                <a:pt x="164" y="258"/>
                              </a:cubicBezTo>
                              <a:cubicBezTo>
                                <a:pt x="226" y="289"/>
                                <a:pt x="330" y="336"/>
                                <a:pt x="370" y="330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54600"/>
                            </a:gs>
                            <a:gs pos="100000">
                              <a:srgbClr val="ff99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7" name=""/>
                    <p:cNvGrpSpPr/>
                    <p:nvPr/>
                  </p:nvGrpSpPr>
                  <p:grpSpPr>
                    <a:xfrm>
                      <a:off x="2467440" y="4299120"/>
                      <a:ext cx="4770360" cy="2032200"/>
                      <a:chOff x="2467440" y="4299120"/>
                      <a:chExt cx="4770360" cy="2032200"/>
                    </a:xfrm>
                  </p:grpSpPr>
                  <p:sp>
                    <p:nvSpPr>
                      <p:cNvPr id="68" name=""/>
                      <p:cNvSpPr/>
                      <p:nvPr/>
                    </p:nvSpPr>
                    <p:spPr>
                      <a:xfrm>
                        <a:off x="3328560" y="4431600"/>
                        <a:ext cx="2882520" cy="178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14" h="1185">
                            <a:moveTo>
                              <a:pt x="561" y="43"/>
                            </a:moveTo>
                            <a:cubicBezTo>
                              <a:pt x="852" y="13"/>
                              <a:pt x="1680" y="0"/>
                              <a:pt x="1905" y="168"/>
                            </a:cubicBezTo>
                            <a:lnTo>
                              <a:pt x="1914" y="1051"/>
                            </a:lnTo>
                            <a:cubicBezTo>
                              <a:pt x="1821" y="1185"/>
                              <a:pt x="1506" y="974"/>
                              <a:pt x="1348" y="974"/>
                            </a:cubicBezTo>
                            <a:cubicBezTo>
                              <a:pt x="1190" y="974"/>
                              <a:pt x="1087" y="1049"/>
                              <a:pt x="964" y="1051"/>
                            </a:cubicBezTo>
                            <a:cubicBezTo>
                              <a:pt x="841" y="1053"/>
                              <a:pt x="729" y="989"/>
                              <a:pt x="609" y="984"/>
                            </a:cubicBezTo>
                            <a:cubicBezTo>
                              <a:pt x="489" y="979"/>
                              <a:pt x="343" y="1025"/>
                              <a:pt x="244" y="1022"/>
                            </a:cubicBezTo>
                            <a:cubicBezTo>
                              <a:pt x="145" y="1019"/>
                              <a:pt x="28" y="1076"/>
                              <a:pt x="14" y="964"/>
                            </a:cubicBezTo>
                            <a:cubicBezTo>
                              <a:pt x="0" y="852"/>
                              <a:pt x="67" y="504"/>
                              <a:pt x="158" y="350"/>
                            </a:cubicBezTo>
                            <a:cubicBezTo>
                              <a:pt x="321" y="24"/>
                              <a:pt x="270" y="73"/>
                              <a:pt x="561" y="43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9900"/>
                          </a:gs>
                          <a:gs pos="50000">
                            <a:srgbClr val="ffff99"/>
                          </a:gs>
                          <a:gs pos="100000">
                            <a:srgbClr val="ff9900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" name=""/>
                      <p:cNvSpPr/>
                      <p:nvPr/>
                    </p:nvSpPr>
                    <p:spPr>
                      <a:xfrm>
                        <a:off x="2467440" y="4299120"/>
                        <a:ext cx="1863000" cy="174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7" h="1158">
                            <a:moveTo>
                              <a:pt x="0" y="1014"/>
                            </a:moveTo>
                            <a:cubicBezTo>
                              <a:pt x="67" y="803"/>
                              <a:pt x="67" y="736"/>
                              <a:pt x="115" y="592"/>
                            </a:cubicBezTo>
                            <a:cubicBezTo>
                              <a:pt x="163" y="448"/>
                              <a:pt x="203" y="248"/>
                              <a:pt x="288" y="150"/>
                            </a:cubicBezTo>
                            <a:cubicBezTo>
                              <a:pt x="373" y="52"/>
                              <a:pt x="472" y="12"/>
                              <a:pt x="624" y="6"/>
                            </a:cubicBezTo>
                            <a:cubicBezTo>
                              <a:pt x="776" y="0"/>
                              <a:pt x="1163" y="62"/>
                              <a:pt x="1200" y="112"/>
                            </a:cubicBezTo>
                            <a:cubicBezTo>
                              <a:pt x="1237" y="162"/>
                              <a:pt x="941" y="130"/>
                              <a:pt x="845" y="304"/>
                            </a:cubicBezTo>
                            <a:cubicBezTo>
                              <a:pt x="749" y="478"/>
                              <a:pt x="614" y="726"/>
                              <a:pt x="624" y="1158"/>
                            </a:cubicBezTo>
                            <a:cubicBezTo>
                              <a:pt x="211" y="1072"/>
                              <a:pt x="307" y="1004"/>
                              <a:pt x="0" y="1014"/>
                            </a:cubicBez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0" name=""/>
                      <p:cNvGrpSpPr/>
                      <p:nvPr/>
                    </p:nvGrpSpPr>
                    <p:grpSpPr>
                      <a:xfrm>
                        <a:off x="6153840" y="4307760"/>
                        <a:ext cx="1083960" cy="2023560"/>
                        <a:chOff x="6153840" y="4307760"/>
                        <a:chExt cx="1083960" cy="2023560"/>
                      </a:xfrm>
                    </p:grpSpPr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6804360" y="4307760"/>
                          <a:ext cx="43344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>
                          <a:off x="6514920" y="4668840"/>
                          <a:ext cx="505800" cy="1373400"/>
                        </a:xfrm>
                        <a:prstGeom prst="flowChartTerminator">
                          <a:avLst/>
                        </a:prstGeom>
                        <a:solidFill>
                          <a:srgbClr val="993300"/>
                        </a:soli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6153840" y="4380120"/>
                          <a:ext cx="50580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74" name=""/>
                <p:cNvSpPr/>
                <p:nvPr/>
              </p:nvSpPr>
              <p:spPr>
                <a:xfrm>
                  <a:off x="2485440" y="3996360"/>
                  <a:ext cx="415440" cy="167040"/>
                </a:xfrm>
                <a:custGeom>
                  <a:avLst/>
                  <a:gdLst/>
                  <a:ahLst/>
                  <a:rect l="l" t="t" r="r" b="b"/>
                  <a:pathLst>
                    <a:path w="276" h="111">
                      <a:moveTo>
                        <a:pt x="0" y="19"/>
                      </a:moveTo>
                      <a:cubicBezTo>
                        <a:pt x="22" y="19"/>
                        <a:pt x="86" y="0"/>
                        <a:pt x="132" y="15"/>
                      </a:cubicBezTo>
                      <a:cubicBezTo>
                        <a:pt x="178" y="30"/>
                        <a:pt x="228" y="67"/>
                        <a:pt x="276" y="11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612160" y="4380480"/>
                <a:ext cx="3510000" cy="1589760"/>
                <a:chOff x="2612160" y="4380480"/>
                <a:chExt cx="3510000" cy="1589760"/>
              </a:xfrm>
            </p:grpSpPr>
            <p:grpSp>
              <p:nvGrpSpPr>
                <p:cNvPr id="76" name=""/>
                <p:cNvGrpSpPr/>
                <p:nvPr/>
              </p:nvGrpSpPr>
              <p:grpSpPr>
                <a:xfrm>
                  <a:off x="3479400" y="4524840"/>
                  <a:ext cx="2642760" cy="1413360"/>
                  <a:chOff x="3479400" y="4524840"/>
                  <a:chExt cx="2642760" cy="1413360"/>
                </a:xfrm>
              </p:grpSpPr>
              <p:grpSp>
                <p:nvGrpSpPr>
                  <p:cNvPr id="77" name=""/>
                  <p:cNvGrpSpPr/>
                  <p:nvPr/>
                </p:nvGrpSpPr>
                <p:grpSpPr>
                  <a:xfrm>
                    <a:off x="3479400" y="5247720"/>
                    <a:ext cx="2642760" cy="690480"/>
                    <a:chOff x="3479400" y="5247720"/>
                    <a:chExt cx="2642760" cy="690480"/>
                  </a:xfrm>
                </p:grpSpPr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3768480" y="524772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3912840" y="568116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4274640" y="524772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5069520" y="524772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4274640" y="549576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4563360" y="578484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4852800" y="553644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5936760" y="582552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3551760" y="553644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4635720" y="531972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5141880" y="575316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5430960" y="553644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009480" y="524772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3479400" y="582552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5575680" y="524772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5864400" y="54644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4057560" y="4524840"/>
                    <a:ext cx="1951200" cy="505440"/>
                    <a:chOff x="4057560" y="4524840"/>
                    <a:chExt cx="1951200" cy="50544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4418640" y="488592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5213520" y="46692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4852440" y="45968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5575320" y="45968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4129560" y="46692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4491000" y="45248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5864040" y="474156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5502960" y="488592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4780080" y="48139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5864040" y="495828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057560" y="495828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2612160" y="4380480"/>
                  <a:ext cx="1532520" cy="1589760"/>
                  <a:chOff x="2612160" y="4380480"/>
                  <a:chExt cx="1532520" cy="158976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2901240" y="45972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2828880" y="546480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828880" y="56815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117960" y="575352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973600" y="531972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828880" y="49586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V="1">
                    <a:off x="3117960" y="51746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117960" y="503100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973600" y="488592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973600" y="560916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3190320" y="5464800"/>
                    <a:ext cx="7200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3335040" y="531972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335040" y="49586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684520" y="539208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612160" y="56815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3262320" y="58982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2756880" y="517536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3407400" y="481392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3262320" y="45972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3262320" y="43804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3407400" y="452484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3696120" y="45972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551760" y="43804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117960" y="474156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045600" y="44524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3768480" y="44524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057920" y="445248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4" name=""/>
            <p:cNvSpPr/>
            <p:nvPr/>
          </p:nvSpPr>
          <p:spPr>
            <a:xfrm>
              <a:off x="3606120" y="5009760"/>
              <a:ext cx="2023920" cy="114120"/>
            </a:xfrm>
            <a:custGeom>
              <a:avLst/>
              <a:gdLst/>
              <a:ahLst/>
              <a:rect l="l" t="t" r="r" b="b"/>
              <a:pathLst>
                <a:path w="1344" h="76">
                  <a:moveTo>
                    <a:pt x="0" y="14"/>
                  </a:moveTo>
                  <a:cubicBezTo>
                    <a:pt x="69" y="24"/>
                    <a:pt x="265" y="76"/>
                    <a:pt x="414" y="74"/>
                  </a:cubicBezTo>
                  <a:cubicBezTo>
                    <a:pt x="563" y="72"/>
                    <a:pt x="739" y="4"/>
                    <a:pt x="894" y="2"/>
                  </a:cubicBezTo>
                  <a:cubicBezTo>
                    <a:pt x="1049" y="0"/>
                    <a:pt x="1250" y="50"/>
                    <a:pt x="1344" y="6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17960" y="4741920"/>
              <a:ext cx="87120" cy="43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6705720" y="4067280"/>
            <a:ext cx="1981080" cy="233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4257720" y="4686480"/>
            <a:ext cx="2295360" cy="1790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2895480" y="28195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06280" y="1568520"/>
            <a:ext cx="8763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00000"/>
                </a:solidFill>
                <a:latin typeface="Arial Rounded MT Bold"/>
              </a:rPr>
              <a:t>The turtle is under the bath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2438280" y="2438280"/>
            <a:ext cx="1758960" cy="312444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1914480" cy="904680"/>
          </a:xfrm>
          <a:prstGeom prst="rect">
            <a:avLst/>
          </a:prstGeom>
          <a:ln w="0">
            <a:noFill/>
          </a:ln>
        </p:spPr>
      </p:pic>
      <p:grpSp>
        <p:nvGrpSpPr>
          <p:cNvPr id="727" name=""/>
          <p:cNvGrpSpPr/>
          <p:nvPr/>
        </p:nvGrpSpPr>
        <p:grpSpPr>
          <a:xfrm>
            <a:off x="1565280" y="3440160"/>
            <a:ext cx="5063760" cy="2808000"/>
            <a:chOff x="1565280" y="3440160"/>
            <a:chExt cx="5063760" cy="2808000"/>
          </a:xfrm>
        </p:grpSpPr>
        <p:sp>
          <p:nvSpPr>
            <p:cNvPr id="728" name=""/>
            <p:cNvSpPr/>
            <p:nvPr/>
          </p:nvSpPr>
          <p:spPr>
            <a:xfrm flipH="1">
              <a:off x="5447880" y="5286600"/>
              <a:ext cx="94068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462400" y="528660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2190240" y="3440160"/>
              <a:ext cx="602280" cy="704520"/>
              <a:chOff x="2190240" y="3440160"/>
              <a:chExt cx="602280" cy="704520"/>
            </a:xfrm>
          </p:grpSpPr>
          <p:sp>
            <p:nvSpPr>
              <p:cNvPr id="731" name=""/>
              <p:cNvSpPr/>
              <p:nvPr/>
            </p:nvSpPr>
            <p:spPr>
              <a:xfrm>
                <a:off x="219024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32236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6200000">
                <a:off x="217512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32236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1667880" y="3440160"/>
              <a:ext cx="602280" cy="704520"/>
              <a:chOff x="1667880" y="3440160"/>
              <a:chExt cx="602280" cy="704520"/>
            </a:xfrm>
          </p:grpSpPr>
          <p:sp>
            <p:nvSpPr>
              <p:cNvPr id="736" name=""/>
              <p:cNvSpPr/>
              <p:nvPr/>
            </p:nvSpPr>
            <p:spPr>
              <a:xfrm>
                <a:off x="166788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80000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6200000">
                <a:off x="165276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80000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1565280" y="4055760"/>
              <a:ext cx="4987080" cy="1837080"/>
            </a:xfrm>
            <a:custGeom>
              <a:avLst/>
              <a:gdLst/>
              <a:ahLst/>
              <a:rect l="l" t="t" r="r" b="b"/>
              <a:pathLst>
                <a:path w="3245" h="1196">
                  <a:moveTo>
                    <a:pt x="521" y="87"/>
                  </a:moveTo>
                  <a:cubicBezTo>
                    <a:pt x="70" y="122"/>
                    <a:pt x="117" y="0"/>
                    <a:pt x="50" y="288"/>
                  </a:cubicBezTo>
                  <a:cubicBezTo>
                    <a:pt x="0" y="438"/>
                    <a:pt x="82" y="847"/>
                    <a:pt x="223" y="989"/>
                  </a:cubicBezTo>
                  <a:cubicBezTo>
                    <a:pt x="364" y="1131"/>
                    <a:pt x="522" y="1114"/>
                    <a:pt x="895" y="1143"/>
                  </a:cubicBezTo>
                  <a:cubicBezTo>
                    <a:pt x="1268" y="1172"/>
                    <a:pt x="2103" y="1196"/>
                    <a:pt x="2460" y="1162"/>
                  </a:cubicBezTo>
                  <a:cubicBezTo>
                    <a:pt x="2817" y="1128"/>
                    <a:pt x="2913" y="1088"/>
                    <a:pt x="3036" y="941"/>
                  </a:cubicBezTo>
                  <a:cubicBezTo>
                    <a:pt x="3159" y="794"/>
                    <a:pt x="3245" y="423"/>
                    <a:pt x="3199" y="279"/>
                  </a:cubicBezTo>
                  <a:cubicBezTo>
                    <a:pt x="3153" y="135"/>
                    <a:pt x="3203" y="109"/>
                    <a:pt x="2757" y="77"/>
                  </a:cubicBezTo>
                  <a:cubicBezTo>
                    <a:pt x="2311" y="45"/>
                    <a:pt x="987" y="85"/>
                    <a:pt x="521" y="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12440" y="4071240"/>
              <a:ext cx="5016600" cy="294840"/>
            </a:xfrm>
            <a:prstGeom prst="flowChartTermina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16920" y="539856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079960" y="5398560"/>
              <a:ext cx="9403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4" name="" descr=""/>
          <p:cNvPicPr/>
          <p:nvPr/>
        </p:nvPicPr>
        <p:blipFill>
          <a:blip r:embed="rId8"/>
          <a:stretch/>
        </p:blipFill>
        <p:spPr>
          <a:xfrm>
            <a:off x="5791320" y="2286000"/>
            <a:ext cx="1028520" cy="292428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9"/>
          <a:stretch/>
        </p:blipFill>
        <p:spPr>
          <a:xfrm>
            <a:off x="920880" y="4086360"/>
            <a:ext cx="1593720" cy="246672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7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2971800" y="480060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9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167 -0.6632 C -0.43386 -0.68588 -0.40469 -0.70857 -0.39427 -0.70857 C -0.33004 -0.70857 -0.26424 -0.35301 -0.26424 0.00254 C -0.26424 -0.17685 -0.23073 -0.35301 -0.19983 -0.35301 C -0.16684 -0.35301 -0.13525 -0.17384 -0.13525 0.00254 C -0.13525 -0.08588 -0.11875 -0.17685 -0.10209 -0.17685 C -0.08559 -0.17685 -0.0691 -0.08843 -0.0691 0.00254 C -0.0691 -0.04306 -0.06077 -0.08588 -0.05261 -0.08588 C -0.04427 -0.08588 -0.03594 -0.04051 -0.03594 0.00254 C -0.03594 -0.02037 -0.03177 -0.04306 -0.02778 -0.04306 C -0.02552 -0.04306 -0.01945 -0.02037 -0.01945 0.00254 C -0.01945 -0.00903 -0.01736 -0.02037 -0.01511 -0.02037 C -0.01511 -0.01736 -0.01094 -0.00903 -0.01094 0.00254 C -0.01094 -0.00347 -0.01094 -0.00903 -0.00868 -0.00903 C -0.00868 -0.00602 -0.0066 -0.00301 -0.0066 0.00254 C -0.0066 -0.00046 -0.0066 -0.00347 -0.0066 -0.00602 C -0.00434 -0.00602 -0.00434 -0.00301 -0.00434 1.85185E-006 C -0.00226 1.85185E-006 -0.00226 -0.00301 -0.00226 -0.00602 C 3.33332999999988E-006 -0.00602 3.33333E-006 -0.00301 3.33333E-006 1.85185E-006 E">
                                      <p:cBhvr>
                                        <p:cTn id="374" dur="2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6280" y="1568520"/>
            <a:ext cx="8763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00000"/>
                </a:solidFill>
                <a:latin typeface="Arial Rounded MT Bold"/>
              </a:rPr>
              <a:t>The dog is behind the bath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6"/>
          <a:stretch/>
        </p:blipFill>
        <p:spPr>
          <a:xfrm>
            <a:off x="2438280" y="2438280"/>
            <a:ext cx="1758960" cy="312444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1914480" cy="904680"/>
          </a:xfrm>
          <a:prstGeom prst="rect">
            <a:avLst/>
          </a:prstGeom>
          <a:ln w="0">
            <a:noFill/>
          </a:ln>
        </p:spPr>
      </p:pic>
      <p:grpSp>
        <p:nvGrpSpPr>
          <p:cNvPr id="759" name=""/>
          <p:cNvGrpSpPr/>
          <p:nvPr/>
        </p:nvGrpSpPr>
        <p:grpSpPr>
          <a:xfrm>
            <a:off x="1641600" y="3440160"/>
            <a:ext cx="5063760" cy="2808000"/>
            <a:chOff x="1641600" y="3440160"/>
            <a:chExt cx="5063760" cy="2808000"/>
          </a:xfrm>
        </p:grpSpPr>
        <p:sp>
          <p:nvSpPr>
            <p:cNvPr id="760" name=""/>
            <p:cNvSpPr/>
            <p:nvPr/>
          </p:nvSpPr>
          <p:spPr>
            <a:xfrm flipH="1">
              <a:off x="5524200" y="5286600"/>
              <a:ext cx="94068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38720" y="528660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266560" y="3440160"/>
              <a:ext cx="602280" cy="704520"/>
              <a:chOff x="2266560" y="3440160"/>
              <a:chExt cx="602280" cy="704520"/>
            </a:xfrm>
          </p:grpSpPr>
          <p:sp>
            <p:nvSpPr>
              <p:cNvPr id="763" name=""/>
              <p:cNvSpPr/>
              <p:nvPr/>
            </p:nvSpPr>
            <p:spPr>
              <a:xfrm>
                <a:off x="226656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39868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6200000">
                <a:off x="225144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39868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1744200" y="3440160"/>
              <a:ext cx="602280" cy="704520"/>
              <a:chOff x="1744200" y="3440160"/>
              <a:chExt cx="602280" cy="704520"/>
            </a:xfrm>
          </p:grpSpPr>
          <p:sp>
            <p:nvSpPr>
              <p:cNvPr id="768" name=""/>
              <p:cNvSpPr/>
              <p:nvPr/>
            </p:nvSpPr>
            <p:spPr>
              <a:xfrm>
                <a:off x="174420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87632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6200000">
                <a:off x="172908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87632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1641600" y="4055760"/>
              <a:ext cx="4987080" cy="1837080"/>
            </a:xfrm>
            <a:custGeom>
              <a:avLst/>
              <a:gdLst/>
              <a:ahLst/>
              <a:rect l="l" t="t" r="r" b="b"/>
              <a:pathLst>
                <a:path w="3245" h="1196">
                  <a:moveTo>
                    <a:pt x="521" y="87"/>
                  </a:moveTo>
                  <a:cubicBezTo>
                    <a:pt x="70" y="122"/>
                    <a:pt x="117" y="0"/>
                    <a:pt x="50" y="288"/>
                  </a:cubicBezTo>
                  <a:cubicBezTo>
                    <a:pt x="0" y="438"/>
                    <a:pt x="82" y="847"/>
                    <a:pt x="223" y="989"/>
                  </a:cubicBezTo>
                  <a:cubicBezTo>
                    <a:pt x="364" y="1131"/>
                    <a:pt x="522" y="1114"/>
                    <a:pt x="895" y="1143"/>
                  </a:cubicBezTo>
                  <a:cubicBezTo>
                    <a:pt x="1268" y="1172"/>
                    <a:pt x="2103" y="1196"/>
                    <a:pt x="2460" y="1162"/>
                  </a:cubicBezTo>
                  <a:cubicBezTo>
                    <a:pt x="2817" y="1128"/>
                    <a:pt x="2913" y="1088"/>
                    <a:pt x="3036" y="941"/>
                  </a:cubicBezTo>
                  <a:cubicBezTo>
                    <a:pt x="3159" y="794"/>
                    <a:pt x="3245" y="423"/>
                    <a:pt x="3199" y="279"/>
                  </a:cubicBezTo>
                  <a:cubicBezTo>
                    <a:pt x="3153" y="135"/>
                    <a:pt x="3203" y="109"/>
                    <a:pt x="2757" y="77"/>
                  </a:cubicBezTo>
                  <a:cubicBezTo>
                    <a:pt x="2311" y="45"/>
                    <a:pt x="987" y="85"/>
                    <a:pt x="521" y="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688760" y="4071240"/>
              <a:ext cx="5016600" cy="294840"/>
            </a:xfrm>
            <a:prstGeom prst="flowChartTermina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93240" y="539856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5156280" y="5398560"/>
              <a:ext cx="9403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6" name="" descr=""/>
          <p:cNvPicPr/>
          <p:nvPr/>
        </p:nvPicPr>
        <p:blipFill>
          <a:blip r:embed="rId8"/>
          <a:stretch/>
        </p:blipFill>
        <p:spPr>
          <a:xfrm>
            <a:off x="5791320" y="2286000"/>
            <a:ext cx="1028520" cy="29242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9"/>
          <a:stretch/>
        </p:blipFill>
        <p:spPr>
          <a:xfrm>
            <a:off x="920880" y="4086360"/>
            <a:ext cx="1593720" cy="246672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79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2971800" y="480060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6"/>
          <a:stretch/>
        </p:blipFill>
        <p:spPr>
          <a:xfrm>
            <a:off x="6553080" y="4191120"/>
            <a:ext cx="19051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4167 -0.66319 C -0.82674 -0.68588 -0.77118 -0.70856 -0.75139 -0.70856 C -0.62882 -0.70856 -0.50348 -0.35301 -0.50348 0.00255 C -0.50348 -0.17685 -0.43976 -0.35301 -0.38091 -0.35301 C -0.31789 -0.35301 -0.25764 -0.17384 -0.25764 0.00255 C -0.25764 -0.08588 -0.22604 -0.17685 -0.19462 -0.17685 C -0.16302 -0.17685 -0.1316 -0.08842 -0.1316 0.00255 C -0.1316 -0.04305 -0.1158 -0.08588 -0.1 -0.08588 C -0.08438 -0.08588 -0.06858 -0.04051 -0.06858 0.00255 C -0.06858 -0.02037 -0.06042 -0.04305 -0.05278 -0.04305 C -0.04879 -0.04305 -0.03716 -0.02037 -0.03716 0.00255 C -0.03716 -0.00903 -0.03299 -0.02037 -0.02882 -0.02037 C -0.02882 -0.01736 -0.02066 -0.00903 -0.02066 0.00255 C -0.02066 -0.00347 -0.02066 -0.00903 -0.0165 -0.00903 C -0.0165 -0.00602 -0.0125 -0.00301 -0.0125 0.00255 C -0.0125 -0.00046 -0.0125 -0.00347 -0.0125 -0.00602 C -0.00834 -0.00602 -0.00834 -0.00301 -0.00834 -1.48148E-006 C -0.00417 -1.48148E-006 -0.00417 -0.00301 -0.00417 -0.00602 C 3.33332999999988E-006 -0.00602 3.33333E-006 -0.00301 3.33333E-006 -1.48148E-006 E">
                                      <p:cBhvr>
                                        <p:cTn id="420" dur="2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06280" y="1568520"/>
            <a:ext cx="8763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00000"/>
                </a:solidFill>
                <a:latin typeface="Arial Rounded MT Bold"/>
              </a:rPr>
              <a:t>The cow is next to the bath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firs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8"/>
          <a:stretch/>
        </p:blipFill>
        <p:spPr>
          <a:xfrm>
            <a:off x="4191120" y="2819520"/>
            <a:ext cx="1596960" cy="220968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9"/>
          <a:stretch/>
        </p:blipFill>
        <p:spPr>
          <a:xfrm>
            <a:off x="6553080" y="4191120"/>
            <a:ext cx="1905120" cy="22572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10"/>
          <a:stretch/>
        </p:blipFill>
        <p:spPr>
          <a:xfrm>
            <a:off x="2438280" y="2438280"/>
            <a:ext cx="1758960" cy="3124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11"/>
          <a:stretch/>
        </p:blipFill>
        <p:spPr>
          <a:xfrm>
            <a:off x="3048120" y="5562720"/>
            <a:ext cx="1914480" cy="904680"/>
          </a:xfrm>
          <a:prstGeom prst="rect">
            <a:avLst/>
          </a:prstGeom>
          <a:ln w="0">
            <a:noFill/>
          </a:ln>
        </p:spPr>
      </p:pic>
      <p:grpSp>
        <p:nvGrpSpPr>
          <p:cNvPr id="795" name=""/>
          <p:cNvGrpSpPr/>
          <p:nvPr/>
        </p:nvGrpSpPr>
        <p:grpSpPr>
          <a:xfrm>
            <a:off x="1641600" y="3516480"/>
            <a:ext cx="5063760" cy="2807640"/>
            <a:chOff x="1641600" y="3516480"/>
            <a:chExt cx="5063760" cy="2807640"/>
          </a:xfrm>
        </p:grpSpPr>
        <p:sp>
          <p:nvSpPr>
            <p:cNvPr id="796" name=""/>
            <p:cNvSpPr/>
            <p:nvPr/>
          </p:nvSpPr>
          <p:spPr>
            <a:xfrm flipH="1">
              <a:off x="5524200" y="5362560"/>
              <a:ext cx="94068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38720" y="536256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2266560" y="3516480"/>
              <a:ext cx="602280" cy="704520"/>
              <a:chOff x="2266560" y="3516480"/>
              <a:chExt cx="602280" cy="704520"/>
            </a:xfrm>
          </p:grpSpPr>
          <p:sp>
            <p:nvSpPr>
              <p:cNvPr id="799" name=""/>
              <p:cNvSpPr/>
              <p:nvPr/>
            </p:nvSpPr>
            <p:spPr>
              <a:xfrm>
                <a:off x="2266560" y="351648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398680" y="404496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6200000">
                <a:off x="2251440" y="372168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398680" y="380988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1744200" y="3516480"/>
              <a:ext cx="602280" cy="704520"/>
              <a:chOff x="1744200" y="3516480"/>
              <a:chExt cx="602280" cy="704520"/>
            </a:xfrm>
          </p:grpSpPr>
          <p:sp>
            <p:nvSpPr>
              <p:cNvPr id="804" name=""/>
              <p:cNvSpPr/>
              <p:nvPr/>
            </p:nvSpPr>
            <p:spPr>
              <a:xfrm>
                <a:off x="1744200" y="351648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876320" y="404496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729080" y="372168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876320" y="380988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1641600" y="4132080"/>
              <a:ext cx="4987080" cy="1837080"/>
            </a:xfrm>
            <a:custGeom>
              <a:avLst/>
              <a:gdLst/>
              <a:ahLst/>
              <a:rect l="l" t="t" r="r" b="b"/>
              <a:pathLst>
                <a:path w="3245" h="1196">
                  <a:moveTo>
                    <a:pt x="521" y="87"/>
                  </a:moveTo>
                  <a:cubicBezTo>
                    <a:pt x="70" y="122"/>
                    <a:pt x="117" y="0"/>
                    <a:pt x="50" y="288"/>
                  </a:cubicBezTo>
                  <a:cubicBezTo>
                    <a:pt x="0" y="438"/>
                    <a:pt x="82" y="847"/>
                    <a:pt x="223" y="989"/>
                  </a:cubicBezTo>
                  <a:cubicBezTo>
                    <a:pt x="364" y="1131"/>
                    <a:pt x="522" y="1114"/>
                    <a:pt x="895" y="1143"/>
                  </a:cubicBezTo>
                  <a:cubicBezTo>
                    <a:pt x="1268" y="1172"/>
                    <a:pt x="2103" y="1196"/>
                    <a:pt x="2460" y="1162"/>
                  </a:cubicBezTo>
                  <a:cubicBezTo>
                    <a:pt x="2817" y="1128"/>
                    <a:pt x="2913" y="1088"/>
                    <a:pt x="3036" y="941"/>
                  </a:cubicBezTo>
                  <a:cubicBezTo>
                    <a:pt x="3159" y="794"/>
                    <a:pt x="3245" y="423"/>
                    <a:pt x="3199" y="279"/>
                  </a:cubicBezTo>
                  <a:cubicBezTo>
                    <a:pt x="3153" y="135"/>
                    <a:pt x="3203" y="109"/>
                    <a:pt x="2757" y="77"/>
                  </a:cubicBezTo>
                  <a:cubicBezTo>
                    <a:pt x="2311" y="45"/>
                    <a:pt x="987" y="85"/>
                    <a:pt x="521" y="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88760" y="4147560"/>
              <a:ext cx="5016600" cy="294840"/>
            </a:xfrm>
            <a:prstGeom prst="flowChartTermina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893240" y="547452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156280" y="5474520"/>
              <a:ext cx="9403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" name="" descr=""/>
          <p:cNvPicPr/>
          <p:nvPr/>
        </p:nvPicPr>
        <p:blipFill>
          <a:blip r:embed="rId12"/>
          <a:stretch/>
        </p:blipFill>
        <p:spPr>
          <a:xfrm>
            <a:off x="5715000" y="2286000"/>
            <a:ext cx="1028880" cy="292428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13"/>
          <a:stretch/>
        </p:blipFill>
        <p:spPr>
          <a:xfrm>
            <a:off x="920880" y="4086360"/>
            <a:ext cx="1593720" cy="246672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2819520" y="472428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6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7816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167 -0.43542 C -0.53212 -0.45023 -0.49636 -0.46505 -0.48351 -0.46505 C -0.40469 -0.46505 -0.32396 -0.23171 -0.32396 0.00162 C -0.32396 -0.1162 -0.28299 -0.23171 -0.24514 -0.23171 C -0.20452 -0.23171 -0.1658 -0.11412 -0.1658 0.00162 C -0.1658 -0.05648 -0.14549 -0.1162 -0.12518 -0.1162 C -0.10504 -0.1162 -0.08473 -0.0581 -0.08473 0.00162 C -0.08473 -0.02824 -0.07466 -0.05648 -0.06441 -0.05648 C -0.05434 -0.05648 -0.0441 -0.02662 -0.0441 0.00162 C -0.0441 -0.01343 -0.03889 -0.02824 -0.03403 -0.02824 C -0.03143 -0.02824 -0.02396 -0.01343 -0.02396 0.00162 C -0.02396 -0.00602 -0.02118 -0.01343 -0.01858 -0.01343 C -0.01858 -0.01134 -0.01337 -0.00602 -0.01337 0.00162 C -0.01337 -0.00232 -0.01337 -0.00602 -0.01059 -0.00602 C -0.01059 -0.00394 -0.00799 -0.00208 -0.00799 0.00162 C -0.00799 -0.00046 -0.00799 -0.00232 -0.00799 -0.00394 C -0.00539 -0.00394 -0.00539 -0.00208 -0.00539 3.7037E-007 C -0.00278 3.7037E-007 -0.00278 -0.00208 -0.00278 -0.00394 C 3.33332999999988E-006 -0.00394 3.33333E-006 -0.00208 3.33333E-006 3.7037E-007 E">
                                      <p:cBhvr>
                                        <p:cTn id="466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0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0000"/>
                </a:solidFill>
                <a:latin typeface="Arial Rounded MT Bold"/>
              </a:rPr>
              <a:t>The monkey is on the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295280" y="3733920"/>
            <a:ext cx="5637960" cy="2674440"/>
            <a:chOff x="1295280" y="3733920"/>
            <a:chExt cx="5637960" cy="2674440"/>
          </a:xfrm>
        </p:grpSpPr>
        <p:grpSp>
          <p:nvGrpSpPr>
            <p:cNvPr id="147" name=""/>
            <p:cNvGrpSpPr/>
            <p:nvPr/>
          </p:nvGrpSpPr>
          <p:grpSpPr>
            <a:xfrm>
              <a:off x="1295280" y="3733920"/>
              <a:ext cx="5637960" cy="2674440"/>
              <a:chOff x="1295280" y="3733920"/>
              <a:chExt cx="5637960" cy="267444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1295280" y="3733920"/>
                <a:ext cx="5637960" cy="2674440"/>
                <a:chOff x="1295280" y="3733920"/>
                <a:chExt cx="5637960" cy="267444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1295280" y="3733920"/>
                  <a:ext cx="5637960" cy="2674440"/>
                  <a:chOff x="1295280" y="3733920"/>
                  <a:chExt cx="5637960" cy="26744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728720" y="4023000"/>
                    <a:ext cx="794880" cy="1662480"/>
                  </a:xfrm>
                  <a:prstGeom prst="rect">
                    <a:avLst/>
                  </a:prstGeom>
                  <a:solidFill>
                    <a:srgbClr val="99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295280" y="3733920"/>
                    <a:ext cx="5637960" cy="2674440"/>
                    <a:chOff x="1295280" y="3733920"/>
                    <a:chExt cx="5637960" cy="267444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1295280" y="3733920"/>
                      <a:ext cx="4626360" cy="2674440"/>
                      <a:chOff x="1295280" y="3733920"/>
                      <a:chExt cx="4626360" cy="2674440"/>
                    </a:xfrm>
                  </p:grpSpPr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2307240" y="373392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1728720" y="5468760"/>
                        <a:ext cx="4192920" cy="505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1801080" y="4962600"/>
                        <a:ext cx="1806840" cy="7228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 rot="15663600">
                        <a:off x="1729440" y="3555360"/>
                        <a:ext cx="578160" cy="1154880"/>
                      </a:xfrm>
                      <a:prstGeom prst="flowChartDelay">
                        <a:avLst/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1295280" y="380628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8" name=""/>
                      <p:cNvGrpSpPr/>
                      <p:nvPr/>
                    </p:nvGrpSpPr>
                    <p:grpSpPr>
                      <a:xfrm>
                        <a:off x="1445760" y="3989880"/>
                        <a:ext cx="1909800" cy="1020600"/>
                        <a:chOff x="1445760" y="3989880"/>
                        <a:chExt cx="1909800" cy="1020600"/>
                      </a:xfrm>
                    </p:grpSpPr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>
                          <a:off x="1445760" y="3989880"/>
                          <a:ext cx="1909800" cy="102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8" h="678">
                              <a:moveTo>
                                <a:pt x="764" y="646"/>
                              </a:moveTo>
                              <a:cubicBezTo>
                                <a:pt x="708" y="662"/>
                                <a:pt x="516" y="678"/>
                                <a:pt x="428" y="646"/>
                              </a:cubicBezTo>
                              <a:cubicBezTo>
                                <a:pt x="340" y="614"/>
                                <a:pt x="292" y="502"/>
                                <a:pt x="236" y="454"/>
                              </a:cubicBezTo>
                              <a:cubicBezTo>
                                <a:pt x="180" y="406"/>
                                <a:pt x="176" y="386"/>
                                <a:pt x="92" y="358"/>
                              </a:cubicBezTo>
                              <a:cubicBezTo>
                                <a:pt x="0" y="330"/>
                                <a:pt x="45" y="309"/>
                                <a:pt x="140" y="262"/>
                              </a:cubicBezTo>
                              <a:cubicBezTo>
                                <a:pt x="195" y="217"/>
                                <a:pt x="364" y="108"/>
                                <a:pt x="422" y="90"/>
                              </a:cubicBezTo>
                              <a:cubicBezTo>
                                <a:pt x="475" y="72"/>
                                <a:pt x="580" y="58"/>
                                <a:pt x="742" y="0"/>
                              </a:cubicBezTo>
                              <a:cubicBezTo>
                                <a:pt x="768" y="20"/>
                                <a:pt x="800" y="42"/>
                                <a:pt x="860" y="70"/>
                              </a:cubicBezTo>
                              <a:cubicBezTo>
                                <a:pt x="920" y="98"/>
                                <a:pt x="1044" y="134"/>
                                <a:pt x="1100" y="166"/>
                              </a:cubicBezTo>
                              <a:cubicBezTo>
                                <a:pt x="1156" y="198"/>
                                <a:pt x="1180" y="230"/>
                                <a:pt x="1196" y="262"/>
                              </a:cubicBezTo>
                              <a:cubicBezTo>
                                <a:pt x="1212" y="294"/>
                                <a:pt x="1268" y="310"/>
                                <a:pt x="1196" y="358"/>
                              </a:cubicBezTo>
                              <a:cubicBezTo>
                                <a:pt x="1124" y="406"/>
                                <a:pt x="836" y="494"/>
                                <a:pt x="764" y="550"/>
                              </a:cubicBezTo>
                              <a:cubicBezTo>
                                <a:pt x="692" y="606"/>
                                <a:pt x="820" y="630"/>
                                <a:pt x="764" y="646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9900"/>
                            </a:gs>
                            <a:gs pos="50000">
                              <a:srgbClr val="ffff99"/>
                            </a:gs>
                            <a:gs pos="100000">
                              <a:srgbClr val="ff9900"/>
                            </a:gs>
                          </a:gsLst>
                          <a:lin ang="5400000"/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1873080" y="4384080"/>
                          <a:ext cx="557280" cy="50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36">
                              <a:moveTo>
                                <a:pt x="370" y="330"/>
                              </a:moveTo>
                              <a:cubicBezTo>
                                <a:pt x="282" y="0"/>
                                <a:pt x="176" y="176"/>
                                <a:pt x="0" y="142"/>
                              </a:cubicBezTo>
                              <a:cubicBezTo>
                                <a:pt x="28" y="190"/>
                                <a:pt x="102" y="227"/>
                                <a:pt x="164" y="258"/>
                              </a:cubicBezTo>
                              <a:cubicBezTo>
                                <a:pt x="226" y="289"/>
                                <a:pt x="330" y="336"/>
                                <a:pt x="370" y="330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54600"/>
                            </a:gs>
                            <a:gs pos="100000">
                              <a:srgbClr val="ff99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2162520" y="4375440"/>
                      <a:ext cx="4770720" cy="2032200"/>
                      <a:chOff x="2162520" y="4375440"/>
                      <a:chExt cx="4770720" cy="2032200"/>
                    </a:xfrm>
                  </p:grpSpPr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3023640" y="4507920"/>
                        <a:ext cx="2882880" cy="178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14" h="1185">
                            <a:moveTo>
                              <a:pt x="561" y="43"/>
                            </a:moveTo>
                            <a:cubicBezTo>
                              <a:pt x="852" y="13"/>
                              <a:pt x="1680" y="0"/>
                              <a:pt x="1905" y="168"/>
                            </a:cubicBezTo>
                            <a:lnTo>
                              <a:pt x="1914" y="1051"/>
                            </a:lnTo>
                            <a:cubicBezTo>
                              <a:pt x="1821" y="1185"/>
                              <a:pt x="1506" y="974"/>
                              <a:pt x="1348" y="974"/>
                            </a:cubicBezTo>
                            <a:cubicBezTo>
                              <a:pt x="1190" y="974"/>
                              <a:pt x="1087" y="1049"/>
                              <a:pt x="964" y="1051"/>
                            </a:cubicBezTo>
                            <a:cubicBezTo>
                              <a:pt x="841" y="1053"/>
                              <a:pt x="729" y="989"/>
                              <a:pt x="609" y="984"/>
                            </a:cubicBezTo>
                            <a:cubicBezTo>
                              <a:pt x="489" y="979"/>
                              <a:pt x="343" y="1025"/>
                              <a:pt x="244" y="1022"/>
                            </a:cubicBezTo>
                            <a:cubicBezTo>
                              <a:pt x="145" y="1019"/>
                              <a:pt x="28" y="1076"/>
                              <a:pt x="14" y="964"/>
                            </a:cubicBezTo>
                            <a:cubicBezTo>
                              <a:pt x="0" y="852"/>
                              <a:pt x="67" y="504"/>
                              <a:pt x="158" y="350"/>
                            </a:cubicBezTo>
                            <a:cubicBezTo>
                              <a:pt x="321" y="24"/>
                              <a:pt x="270" y="73"/>
                              <a:pt x="561" y="43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9900"/>
                          </a:gs>
                          <a:gs pos="50000">
                            <a:srgbClr val="ffff99"/>
                          </a:gs>
                          <a:gs pos="100000">
                            <a:srgbClr val="ff9900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2162520" y="4375440"/>
                        <a:ext cx="1863000" cy="174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7" h="1158">
                            <a:moveTo>
                              <a:pt x="0" y="1014"/>
                            </a:moveTo>
                            <a:cubicBezTo>
                              <a:pt x="67" y="803"/>
                              <a:pt x="67" y="736"/>
                              <a:pt x="115" y="592"/>
                            </a:cubicBezTo>
                            <a:cubicBezTo>
                              <a:pt x="163" y="448"/>
                              <a:pt x="203" y="248"/>
                              <a:pt x="288" y="150"/>
                            </a:cubicBezTo>
                            <a:cubicBezTo>
                              <a:pt x="373" y="52"/>
                              <a:pt x="472" y="12"/>
                              <a:pt x="624" y="6"/>
                            </a:cubicBezTo>
                            <a:cubicBezTo>
                              <a:pt x="776" y="0"/>
                              <a:pt x="1163" y="62"/>
                              <a:pt x="1200" y="112"/>
                            </a:cubicBezTo>
                            <a:cubicBezTo>
                              <a:pt x="1237" y="162"/>
                              <a:pt x="941" y="130"/>
                              <a:pt x="845" y="304"/>
                            </a:cubicBezTo>
                            <a:cubicBezTo>
                              <a:pt x="749" y="478"/>
                              <a:pt x="614" y="726"/>
                              <a:pt x="624" y="1158"/>
                            </a:cubicBezTo>
                            <a:cubicBezTo>
                              <a:pt x="211" y="1072"/>
                              <a:pt x="307" y="1004"/>
                              <a:pt x="0" y="1014"/>
                            </a:cubicBez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64" name=""/>
                      <p:cNvGrpSpPr/>
                      <p:nvPr/>
                    </p:nvGrpSpPr>
                    <p:grpSpPr>
                      <a:xfrm>
                        <a:off x="5849280" y="4384080"/>
                        <a:ext cx="1083960" cy="2023560"/>
                        <a:chOff x="5849280" y="4384080"/>
                        <a:chExt cx="1083960" cy="2023560"/>
                      </a:xfrm>
                    </p:grpSpPr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>
                          <a:off x="6499800" y="4384080"/>
                          <a:ext cx="43344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6210360" y="4745160"/>
                          <a:ext cx="505800" cy="1373400"/>
                        </a:xfrm>
                        <a:prstGeom prst="flowChartTerminator">
                          <a:avLst/>
                        </a:prstGeom>
                        <a:solidFill>
                          <a:srgbClr val="993300"/>
                        </a:soli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5849280" y="4456440"/>
                          <a:ext cx="50580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168" name=""/>
                <p:cNvSpPr/>
                <p:nvPr/>
              </p:nvSpPr>
              <p:spPr>
                <a:xfrm>
                  <a:off x="2180880" y="4072680"/>
                  <a:ext cx="415440" cy="167040"/>
                </a:xfrm>
                <a:custGeom>
                  <a:avLst/>
                  <a:gdLst/>
                  <a:ahLst/>
                  <a:rect l="l" t="t" r="r" b="b"/>
                  <a:pathLst>
                    <a:path w="276" h="111">
                      <a:moveTo>
                        <a:pt x="0" y="19"/>
                      </a:moveTo>
                      <a:cubicBezTo>
                        <a:pt x="22" y="19"/>
                        <a:pt x="86" y="0"/>
                        <a:pt x="132" y="15"/>
                      </a:cubicBezTo>
                      <a:cubicBezTo>
                        <a:pt x="178" y="30"/>
                        <a:pt x="228" y="67"/>
                        <a:pt x="276" y="11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2307240" y="4456800"/>
                <a:ext cx="3510000" cy="1589760"/>
                <a:chOff x="2307240" y="4456800"/>
                <a:chExt cx="3510000" cy="158976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3174480" y="4601160"/>
                  <a:ext cx="2642760" cy="1413360"/>
                  <a:chOff x="3174480" y="4601160"/>
                  <a:chExt cx="2642760" cy="141336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3174480" y="5324040"/>
                    <a:ext cx="2642760" cy="690480"/>
                    <a:chOff x="3174480" y="5324040"/>
                    <a:chExt cx="2642760" cy="69048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4635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3607920" y="575748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39697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47649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969720" y="55720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4258800" y="58611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454788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563220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2468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4331160" y="53960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4837320" y="58294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51260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570456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317448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52711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5559840" y="554076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3753000" y="4601160"/>
                    <a:ext cx="1951200" cy="505440"/>
                    <a:chOff x="3753000" y="4601160"/>
                    <a:chExt cx="1951200" cy="50544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11408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490896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54788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527076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382500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86440" y="4601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5559480" y="481788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519840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475520" y="489024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559480" y="50346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753000" y="503460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2307240" y="4456800"/>
                  <a:ext cx="1532520" cy="1589760"/>
                  <a:chOff x="2307240" y="4456800"/>
                  <a:chExt cx="1532520" cy="15897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259632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523960" y="55411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52396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813040" y="58298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668680" y="53960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52396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813040" y="5250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813040" y="51073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668680" y="49622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668680" y="56854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885400" y="5541120"/>
                    <a:ext cx="7200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030120" y="53960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03012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379600" y="546840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30724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957400" y="597456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451960" y="52516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102480" y="489024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9574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95740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102480" y="460116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3912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24684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813040" y="48178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74068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46356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3753000" y="452880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28" name=""/>
            <p:cNvSpPr/>
            <p:nvPr/>
          </p:nvSpPr>
          <p:spPr>
            <a:xfrm>
              <a:off x="3301560" y="5086080"/>
              <a:ext cx="2023920" cy="114120"/>
            </a:xfrm>
            <a:custGeom>
              <a:avLst/>
              <a:gdLst/>
              <a:ahLst/>
              <a:rect l="l" t="t" r="r" b="b"/>
              <a:pathLst>
                <a:path w="1344" h="76">
                  <a:moveTo>
                    <a:pt x="0" y="14"/>
                  </a:moveTo>
                  <a:cubicBezTo>
                    <a:pt x="69" y="24"/>
                    <a:pt x="265" y="76"/>
                    <a:pt x="414" y="74"/>
                  </a:cubicBezTo>
                  <a:cubicBezTo>
                    <a:pt x="563" y="72"/>
                    <a:pt x="739" y="4"/>
                    <a:pt x="894" y="2"/>
                  </a:cubicBezTo>
                  <a:cubicBezTo>
                    <a:pt x="1049" y="0"/>
                    <a:pt x="1250" y="50"/>
                    <a:pt x="1344" y="6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13400" y="4818240"/>
              <a:ext cx="87120" cy="43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2"/>
          <a:stretch/>
        </p:blipFill>
        <p:spPr>
          <a:xfrm>
            <a:off x="2590920" y="28195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75 -0.28519 C -0.32882 -0.2956 -0.2974 -0.30556 -0.28663 -0.30556 C -0.21771 -0.30556 -0.14635 -0.14444 -0.14635 0.01667 C -0.14635 -0.06481 -0.11111 -0.14444 -0.07743 -0.14444 C -0.04184 -0.14444 -0.00799 -0.06343 -0.00799 0.01667 C -0.00799 -0.02361 0.00972 -0.06481 0.0276 -0.06481 C 0.04549 -0.06481 0.06319 -0.02477 0.06319 0.01667 C 0.06319 -0.0044 0.07222 -0.02361 0.0809 -0.02361 C 0.08993 -0.02361 0.09861 -0.00301 0.09861 0.01667 C 0.09861 0.00602 0.10347 -0.0044 0.10747 -0.0044 C 0.10955 -0.0044 0.11667 0.00602 0.11667 0.01667 C 0.11667 0.01111 0.11892 0.00602 0.12135 0.00602 C 0.12135 0.00741 0.12587 0.01111 0.12587 0.01667 C 0.12587 0.01366 0.12587 0.01111 0.12813 0.01111 C 0.12813 0.01273 0.13003 0.01389 0.13003 0.01667 C 0.13003 0.01505 0.13003 0.01366 0.13003 0.01273 C 0.13281 0.01273 0.13281 0.01389 0.13281 0.01528 C 0.13507 0.01528 0.13507 0.01389 0.13507 0.01273 C 0.1375 0.01273 0.1375 0.01389 0.1375 0.01528 E">
                                      <p:cBhvr>
                                        <p:cTn id="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600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0000"/>
                </a:solidFill>
                <a:latin typeface="Arial Rounded MT Bold"/>
              </a:rPr>
              <a:t>The cat is behind the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295280" y="3733920"/>
            <a:ext cx="5637960" cy="2674440"/>
            <a:chOff x="1295280" y="3733920"/>
            <a:chExt cx="5637960" cy="2674440"/>
          </a:xfrm>
        </p:grpSpPr>
        <p:grpSp>
          <p:nvGrpSpPr>
            <p:cNvPr id="242" name=""/>
            <p:cNvGrpSpPr/>
            <p:nvPr/>
          </p:nvGrpSpPr>
          <p:grpSpPr>
            <a:xfrm>
              <a:off x="1295280" y="3733920"/>
              <a:ext cx="5637960" cy="2674440"/>
              <a:chOff x="1295280" y="3733920"/>
              <a:chExt cx="5637960" cy="26744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1295280" y="3733920"/>
                <a:ext cx="5637960" cy="2674440"/>
                <a:chOff x="1295280" y="3733920"/>
                <a:chExt cx="5637960" cy="26744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1295280" y="3733920"/>
                  <a:ext cx="5637960" cy="2674440"/>
                  <a:chOff x="1295280" y="3733920"/>
                  <a:chExt cx="5637960" cy="267444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1728720" y="4023000"/>
                    <a:ext cx="794880" cy="1662480"/>
                  </a:xfrm>
                  <a:prstGeom prst="rect">
                    <a:avLst/>
                  </a:prstGeom>
                  <a:solidFill>
                    <a:srgbClr val="99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1295280" y="3733920"/>
                    <a:ext cx="5637960" cy="2674440"/>
                    <a:chOff x="1295280" y="3733920"/>
                    <a:chExt cx="5637960" cy="2674440"/>
                  </a:xfrm>
                </p:grpSpPr>
                <p:grpSp>
                  <p:nvGrpSpPr>
                    <p:cNvPr id="247" name=""/>
                    <p:cNvGrpSpPr/>
                    <p:nvPr/>
                  </p:nvGrpSpPr>
                  <p:grpSpPr>
                    <a:xfrm>
                      <a:off x="1295280" y="3733920"/>
                      <a:ext cx="4626360" cy="2674440"/>
                      <a:chOff x="1295280" y="3733920"/>
                      <a:chExt cx="4626360" cy="2674440"/>
                    </a:xfrm>
                  </p:grpSpPr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2307240" y="373392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1728720" y="5468760"/>
                        <a:ext cx="4192920" cy="505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1801080" y="4962600"/>
                        <a:ext cx="1806840" cy="7228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rot="15663600">
                        <a:off x="1729440" y="3555360"/>
                        <a:ext cx="578160" cy="1154880"/>
                      </a:xfrm>
                      <a:prstGeom prst="flowChartDelay">
                        <a:avLst/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1295280" y="380628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3" name=""/>
                      <p:cNvGrpSpPr/>
                      <p:nvPr/>
                    </p:nvGrpSpPr>
                    <p:grpSpPr>
                      <a:xfrm>
                        <a:off x="1445760" y="3989880"/>
                        <a:ext cx="1909800" cy="1020600"/>
                        <a:chOff x="1445760" y="3989880"/>
                        <a:chExt cx="1909800" cy="1020600"/>
                      </a:xfrm>
                    </p:grpSpPr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1445760" y="3989880"/>
                          <a:ext cx="1909800" cy="102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8" h="678">
                              <a:moveTo>
                                <a:pt x="764" y="646"/>
                              </a:moveTo>
                              <a:cubicBezTo>
                                <a:pt x="708" y="662"/>
                                <a:pt x="516" y="678"/>
                                <a:pt x="428" y="646"/>
                              </a:cubicBezTo>
                              <a:cubicBezTo>
                                <a:pt x="340" y="614"/>
                                <a:pt x="292" y="502"/>
                                <a:pt x="236" y="454"/>
                              </a:cubicBezTo>
                              <a:cubicBezTo>
                                <a:pt x="180" y="406"/>
                                <a:pt x="176" y="386"/>
                                <a:pt x="92" y="358"/>
                              </a:cubicBezTo>
                              <a:cubicBezTo>
                                <a:pt x="0" y="330"/>
                                <a:pt x="45" y="309"/>
                                <a:pt x="140" y="262"/>
                              </a:cubicBezTo>
                              <a:cubicBezTo>
                                <a:pt x="195" y="217"/>
                                <a:pt x="364" y="108"/>
                                <a:pt x="422" y="90"/>
                              </a:cubicBezTo>
                              <a:cubicBezTo>
                                <a:pt x="475" y="72"/>
                                <a:pt x="580" y="58"/>
                                <a:pt x="742" y="0"/>
                              </a:cubicBezTo>
                              <a:cubicBezTo>
                                <a:pt x="768" y="20"/>
                                <a:pt x="800" y="42"/>
                                <a:pt x="860" y="70"/>
                              </a:cubicBezTo>
                              <a:cubicBezTo>
                                <a:pt x="920" y="98"/>
                                <a:pt x="1044" y="134"/>
                                <a:pt x="1100" y="166"/>
                              </a:cubicBezTo>
                              <a:cubicBezTo>
                                <a:pt x="1156" y="198"/>
                                <a:pt x="1180" y="230"/>
                                <a:pt x="1196" y="262"/>
                              </a:cubicBezTo>
                              <a:cubicBezTo>
                                <a:pt x="1212" y="294"/>
                                <a:pt x="1268" y="310"/>
                                <a:pt x="1196" y="358"/>
                              </a:cubicBezTo>
                              <a:cubicBezTo>
                                <a:pt x="1124" y="406"/>
                                <a:pt x="836" y="494"/>
                                <a:pt x="764" y="550"/>
                              </a:cubicBezTo>
                              <a:cubicBezTo>
                                <a:pt x="692" y="606"/>
                                <a:pt x="820" y="630"/>
                                <a:pt x="764" y="646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9900"/>
                            </a:gs>
                            <a:gs pos="50000">
                              <a:srgbClr val="ffff99"/>
                            </a:gs>
                            <a:gs pos="100000">
                              <a:srgbClr val="ff9900"/>
                            </a:gs>
                          </a:gsLst>
                          <a:lin ang="5400000"/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1873080" y="4384080"/>
                          <a:ext cx="557280" cy="50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36">
                              <a:moveTo>
                                <a:pt x="370" y="330"/>
                              </a:moveTo>
                              <a:cubicBezTo>
                                <a:pt x="282" y="0"/>
                                <a:pt x="176" y="176"/>
                                <a:pt x="0" y="142"/>
                              </a:cubicBezTo>
                              <a:cubicBezTo>
                                <a:pt x="28" y="190"/>
                                <a:pt x="102" y="227"/>
                                <a:pt x="164" y="258"/>
                              </a:cubicBezTo>
                              <a:cubicBezTo>
                                <a:pt x="226" y="289"/>
                                <a:pt x="330" y="336"/>
                                <a:pt x="370" y="330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54600"/>
                            </a:gs>
                            <a:gs pos="100000">
                              <a:srgbClr val="ff99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6" name=""/>
                    <p:cNvGrpSpPr/>
                    <p:nvPr/>
                  </p:nvGrpSpPr>
                  <p:grpSpPr>
                    <a:xfrm>
                      <a:off x="2162520" y="4375440"/>
                      <a:ext cx="4770720" cy="2032200"/>
                      <a:chOff x="2162520" y="4375440"/>
                      <a:chExt cx="4770720" cy="2032200"/>
                    </a:xfrm>
                  </p:grpSpPr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3023640" y="4507920"/>
                        <a:ext cx="2882880" cy="178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14" h="1185">
                            <a:moveTo>
                              <a:pt x="561" y="43"/>
                            </a:moveTo>
                            <a:cubicBezTo>
                              <a:pt x="852" y="13"/>
                              <a:pt x="1680" y="0"/>
                              <a:pt x="1905" y="168"/>
                            </a:cubicBezTo>
                            <a:lnTo>
                              <a:pt x="1914" y="1051"/>
                            </a:lnTo>
                            <a:cubicBezTo>
                              <a:pt x="1821" y="1185"/>
                              <a:pt x="1506" y="974"/>
                              <a:pt x="1348" y="974"/>
                            </a:cubicBezTo>
                            <a:cubicBezTo>
                              <a:pt x="1190" y="974"/>
                              <a:pt x="1087" y="1049"/>
                              <a:pt x="964" y="1051"/>
                            </a:cubicBezTo>
                            <a:cubicBezTo>
                              <a:pt x="841" y="1053"/>
                              <a:pt x="729" y="989"/>
                              <a:pt x="609" y="984"/>
                            </a:cubicBezTo>
                            <a:cubicBezTo>
                              <a:pt x="489" y="979"/>
                              <a:pt x="343" y="1025"/>
                              <a:pt x="244" y="1022"/>
                            </a:cubicBezTo>
                            <a:cubicBezTo>
                              <a:pt x="145" y="1019"/>
                              <a:pt x="28" y="1076"/>
                              <a:pt x="14" y="964"/>
                            </a:cubicBezTo>
                            <a:cubicBezTo>
                              <a:pt x="0" y="852"/>
                              <a:pt x="67" y="504"/>
                              <a:pt x="158" y="350"/>
                            </a:cubicBezTo>
                            <a:cubicBezTo>
                              <a:pt x="321" y="24"/>
                              <a:pt x="270" y="73"/>
                              <a:pt x="561" y="43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9900"/>
                          </a:gs>
                          <a:gs pos="50000">
                            <a:srgbClr val="ffff99"/>
                          </a:gs>
                          <a:gs pos="100000">
                            <a:srgbClr val="ff9900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2162520" y="4375440"/>
                        <a:ext cx="1863000" cy="174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7" h="1158">
                            <a:moveTo>
                              <a:pt x="0" y="1014"/>
                            </a:moveTo>
                            <a:cubicBezTo>
                              <a:pt x="67" y="803"/>
                              <a:pt x="67" y="736"/>
                              <a:pt x="115" y="592"/>
                            </a:cubicBezTo>
                            <a:cubicBezTo>
                              <a:pt x="163" y="448"/>
                              <a:pt x="203" y="248"/>
                              <a:pt x="288" y="150"/>
                            </a:cubicBezTo>
                            <a:cubicBezTo>
                              <a:pt x="373" y="52"/>
                              <a:pt x="472" y="12"/>
                              <a:pt x="624" y="6"/>
                            </a:cubicBezTo>
                            <a:cubicBezTo>
                              <a:pt x="776" y="0"/>
                              <a:pt x="1163" y="62"/>
                              <a:pt x="1200" y="112"/>
                            </a:cubicBezTo>
                            <a:cubicBezTo>
                              <a:pt x="1237" y="162"/>
                              <a:pt x="941" y="130"/>
                              <a:pt x="845" y="304"/>
                            </a:cubicBezTo>
                            <a:cubicBezTo>
                              <a:pt x="749" y="478"/>
                              <a:pt x="614" y="726"/>
                              <a:pt x="624" y="1158"/>
                            </a:cubicBezTo>
                            <a:cubicBezTo>
                              <a:pt x="211" y="1072"/>
                              <a:pt x="307" y="1004"/>
                              <a:pt x="0" y="1014"/>
                            </a:cubicBez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9" name=""/>
                      <p:cNvGrpSpPr/>
                      <p:nvPr/>
                    </p:nvGrpSpPr>
                    <p:grpSpPr>
                      <a:xfrm>
                        <a:off x="5849280" y="4384080"/>
                        <a:ext cx="1083960" cy="2023560"/>
                        <a:chOff x="5849280" y="4384080"/>
                        <a:chExt cx="1083960" cy="2023560"/>
                      </a:xfrm>
                    </p:grpSpPr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6499800" y="4384080"/>
                          <a:ext cx="43344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6210360" y="4745160"/>
                          <a:ext cx="505800" cy="1373400"/>
                        </a:xfrm>
                        <a:prstGeom prst="flowChartTerminator">
                          <a:avLst/>
                        </a:prstGeom>
                        <a:solidFill>
                          <a:srgbClr val="993300"/>
                        </a:soli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5849280" y="4456440"/>
                          <a:ext cx="50580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263" name=""/>
                <p:cNvSpPr/>
                <p:nvPr/>
              </p:nvSpPr>
              <p:spPr>
                <a:xfrm>
                  <a:off x="2180880" y="4072680"/>
                  <a:ext cx="415440" cy="167040"/>
                </a:xfrm>
                <a:custGeom>
                  <a:avLst/>
                  <a:gdLst/>
                  <a:ahLst/>
                  <a:rect l="l" t="t" r="r" b="b"/>
                  <a:pathLst>
                    <a:path w="276" h="111">
                      <a:moveTo>
                        <a:pt x="0" y="19"/>
                      </a:moveTo>
                      <a:cubicBezTo>
                        <a:pt x="22" y="19"/>
                        <a:pt x="86" y="0"/>
                        <a:pt x="132" y="15"/>
                      </a:cubicBezTo>
                      <a:cubicBezTo>
                        <a:pt x="178" y="30"/>
                        <a:pt x="228" y="67"/>
                        <a:pt x="276" y="11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307240" y="4456800"/>
                <a:ext cx="3510000" cy="1589760"/>
                <a:chOff x="2307240" y="4456800"/>
                <a:chExt cx="3510000" cy="158976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174480" y="4601160"/>
                  <a:ext cx="2642760" cy="1413360"/>
                  <a:chOff x="3174480" y="4601160"/>
                  <a:chExt cx="2642760" cy="1413360"/>
                </a:xfrm>
              </p:grpSpPr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174480" y="5324040"/>
                    <a:ext cx="2642760" cy="690480"/>
                    <a:chOff x="3174480" y="5324040"/>
                    <a:chExt cx="2642760" cy="69048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34635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3607920" y="575748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39697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7649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3969720" y="55720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258800" y="58611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54788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63220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32468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4331160" y="53960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837320" y="58294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1260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70456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317448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2711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559840" y="554076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3753000" y="4601160"/>
                    <a:ext cx="1951200" cy="505440"/>
                    <a:chOff x="3753000" y="4601160"/>
                    <a:chExt cx="1951200" cy="5054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411408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490896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454788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527076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82500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4186440" y="4601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5559480" y="481788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519840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4475520" y="489024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5559480" y="50346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3753000" y="503460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2307240" y="4456800"/>
                  <a:ext cx="1532520" cy="1589760"/>
                  <a:chOff x="2307240" y="4456800"/>
                  <a:chExt cx="1532520" cy="158976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259632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523960" y="55411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52396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813040" y="58298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668680" y="53960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52396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>
                    <a:off x="2813040" y="5250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813040" y="51073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668680" y="49622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668680" y="56854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885400" y="5541120"/>
                    <a:ext cx="7200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030120" y="53960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03012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379600" y="546840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30724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957400" y="597456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451960" y="52516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102480" y="489024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9574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95740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102480" y="460116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3912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24684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813040" y="48178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74068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46356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753000" y="452880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3" name=""/>
            <p:cNvSpPr/>
            <p:nvPr/>
          </p:nvSpPr>
          <p:spPr>
            <a:xfrm>
              <a:off x="3301560" y="5086080"/>
              <a:ext cx="2023920" cy="114120"/>
            </a:xfrm>
            <a:custGeom>
              <a:avLst/>
              <a:gdLst/>
              <a:ahLst/>
              <a:rect l="l" t="t" r="r" b="b"/>
              <a:pathLst>
                <a:path w="1344" h="76">
                  <a:moveTo>
                    <a:pt x="0" y="14"/>
                  </a:moveTo>
                  <a:cubicBezTo>
                    <a:pt x="69" y="24"/>
                    <a:pt x="265" y="76"/>
                    <a:pt x="414" y="74"/>
                  </a:cubicBezTo>
                  <a:cubicBezTo>
                    <a:pt x="563" y="72"/>
                    <a:pt x="739" y="4"/>
                    <a:pt x="894" y="2"/>
                  </a:cubicBezTo>
                  <a:cubicBezTo>
                    <a:pt x="1049" y="0"/>
                    <a:pt x="1250" y="50"/>
                    <a:pt x="1344" y="6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3400" y="4818240"/>
              <a:ext cx="87120" cy="43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0"/>
          <a:stretch/>
        </p:blipFill>
        <p:spPr>
          <a:xfrm>
            <a:off x="2590920" y="28195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705720" y="2438280"/>
            <a:ext cx="167616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3"/>
          <a:stretch/>
        </p:blipFill>
        <p:spPr>
          <a:xfrm>
            <a:off x="3419640" y="4686480"/>
            <a:ext cx="22953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5 -0.53889 C -0.51562 -0.55741 -0.48108 -0.5757 -0.46875 -0.5757 C -0.39219 -0.5757 -0.31406 -0.28681 -0.31406 0.00208 C -0.31406 -0.14375 -0.27431 -0.28681 -0.23767 -0.28681 C -0.19826 -0.28681 -0.16076 -0.14121 -0.16076 0.00208 C -0.16076 -0.06991 -0.14097 -0.14375 -0.12135 -0.14375 C -0.10174 -0.14375 -0.08212 -0.07176 -0.08212 0.00208 C -0.08212 -0.03496 -0.07222 -0.06991 -0.0625 -0.06991 C -0.0526 -0.06991 -0.04288 -0.03287 -0.04288 0.00208 C -0.04288 -0.01644 -0.03767 -0.03496 -0.03299 -0.03496 C -0.03038 -0.03496 -0.02309 -0.01644 -0.02309 0.00208 C -0.02309 -0.00718 -0.02066 -0.01644 -0.01806 -0.01644 C -0.01806 -0.01412 -0.01285 -0.00718 -0.01285 0.00208 C -0.01285 -0.00278 -0.01285 -0.00718 -0.01042 -0.00718 C -0.01042 -0.00487 -0.00781 -0.00255 -0.00781 0.00208 C -0.00781 -0.00047 -0.00781 -0.00278 -0.00781 -0.00487 C -0.00521 -0.00487 -0.00521 -0.00255 -0.00521 4.44444E-006 C -0.0026 4.44444E-006 -0.0026 -0.00255 -0.0026 -0.00487 C 0 -0.00487 0 -0.00255 0 4.44444E-006 E">
                                      <p:cBhvr>
                                        <p:cTn id="52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600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0000"/>
                </a:solidFill>
                <a:latin typeface="Arial Rounded MT Bold"/>
              </a:rPr>
              <a:t>The lion is next to the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295280" y="3733920"/>
            <a:ext cx="5637960" cy="2674440"/>
            <a:chOff x="1295280" y="3733920"/>
            <a:chExt cx="5637960" cy="2674440"/>
          </a:xfrm>
        </p:grpSpPr>
        <p:grpSp>
          <p:nvGrpSpPr>
            <p:cNvPr id="339" name=""/>
            <p:cNvGrpSpPr/>
            <p:nvPr/>
          </p:nvGrpSpPr>
          <p:grpSpPr>
            <a:xfrm>
              <a:off x="1295280" y="3733920"/>
              <a:ext cx="5637960" cy="2674440"/>
              <a:chOff x="1295280" y="3733920"/>
              <a:chExt cx="5637960" cy="267444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1295280" y="3733920"/>
                <a:ext cx="5637960" cy="2674440"/>
                <a:chOff x="1295280" y="3733920"/>
                <a:chExt cx="5637960" cy="267444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1295280" y="3733920"/>
                  <a:ext cx="5637960" cy="2674440"/>
                  <a:chOff x="1295280" y="3733920"/>
                  <a:chExt cx="5637960" cy="26744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1728720" y="4023000"/>
                    <a:ext cx="794880" cy="1662480"/>
                  </a:xfrm>
                  <a:prstGeom prst="rect">
                    <a:avLst/>
                  </a:prstGeom>
                  <a:solidFill>
                    <a:srgbClr val="99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1295280" y="3733920"/>
                    <a:ext cx="5637960" cy="2674440"/>
                    <a:chOff x="1295280" y="3733920"/>
                    <a:chExt cx="5637960" cy="2674440"/>
                  </a:xfrm>
                </p:grpSpPr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1295280" y="3733920"/>
                      <a:ext cx="4626360" cy="2674440"/>
                      <a:chOff x="1295280" y="3733920"/>
                      <a:chExt cx="4626360" cy="2674440"/>
                    </a:xfrm>
                  </p:grpSpPr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2307240" y="373392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1728720" y="5468760"/>
                        <a:ext cx="4192920" cy="505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7" name=""/>
                      <p:cNvSpPr/>
                      <p:nvPr/>
                    </p:nvSpPr>
                    <p:spPr>
                      <a:xfrm>
                        <a:off x="1801080" y="4962600"/>
                        <a:ext cx="1806840" cy="7228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8" name=""/>
                      <p:cNvSpPr/>
                      <p:nvPr/>
                    </p:nvSpPr>
                    <p:spPr>
                      <a:xfrm rot="15663600">
                        <a:off x="1729440" y="3555360"/>
                        <a:ext cx="578160" cy="1154880"/>
                      </a:xfrm>
                      <a:prstGeom prst="flowChartDelay">
                        <a:avLst/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1295280" y="380628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50" name=""/>
                      <p:cNvGrpSpPr/>
                      <p:nvPr/>
                    </p:nvGrpSpPr>
                    <p:grpSpPr>
                      <a:xfrm>
                        <a:off x="1445760" y="3989880"/>
                        <a:ext cx="1909800" cy="1020600"/>
                        <a:chOff x="1445760" y="3989880"/>
                        <a:chExt cx="1909800" cy="1020600"/>
                      </a:xfrm>
                    </p:grpSpPr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>
                          <a:off x="1445760" y="3989880"/>
                          <a:ext cx="1909800" cy="102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8" h="678">
                              <a:moveTo>
                                <a:pt x="764" y="646"/>
                              </a:moveTo>
                              <a:cubicBezTo>
                                <a:pt x="708" y="662"/>
                                <a:pt x="516" y="678"/>
                                <a:pt x="428" y="646"/>
                              </a:cubicBezTo>
                              <a:cubicBezTo>
                                <a:pt x="340" y="614"/>
                                <a:pt x="292" y="502"/>
                                <a:pt x="236" y="454"/>
                              </a:cubicBezTo>
                              <a:cubicBezTo>
                                <a:pt x="180" y="406"/>
                                <a:pt x="176" y="386"/>
                                <a:pt x="92" y="358"/>
                              </a:cubicBezTo>
                              <a:cubicBezTo>
                                <a:pt x="0" y="330"/>
                                <a:pt x="45" y="309"/>
                                <a:pt x="140" y="262"/>
                              </a:cubicBezTo>
                              <a:cubicBezTo>
                                <a:pt x="195" y="217"/>
                                <a:pt x="364" y="108"/>
                                <a:pt x="422" y="90"/>
                              </a:cubicBezTo>
                              <a:cubicBezTo>
                                <a:pt x="475" y="72"/>
                                <a:pt x="580" y="58"/>
                                <a:pt x="742" y="0"/>
                              </a:cubicBezTo>
                              <a:cubicBezTo>
                                <a:pt x="768" y="20"/>
                                <a:pt x="800" y="42"/>
                                <a:pt x="860" y="70"/>
                              </a:cubicBezTo>
                              <a:cubicBezTo>
                                <a:pt x="920" y="98"/>
                                <a:pt x="1044" y="134"/>
                                <a:pt x="1100" y="166"/>
                              </a:cubicBezTo>
                              <a:cubicBezTo>
                                <a:pt x="1156" y="198"/>
                                <a:pt x="1180" y="230"/>
                                <a:pt x="1196" y="262"/>
                              </a:cubicBezTo>
                              <a:cubicBezTo>
                                <a:pt x="1212" y="294"/>
                                <a:pt x="1268" y="310"/>
                                <a:pt x="1196" y="358"/>
                              </a:cubicBezTo>
                              <a:cubicBezTo>
                                <a:pt x="1124" y="406"/>
                                <a:pt x="836" y="494"/>
                                <a:pt x="764" y="550"/>
                              </a:cubicBezTo>
                              <a:cubicBezTo>
                                <a:pt x="692" y="606"/>
                                <a:pt x="820" y="630"/>
                                <a:pt x="764" y="646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9900"/>
                            </a:gs>
                            <a:gs pos="50000">
                              <a:srgbClr val="ffff99"/>
                            </a:gs>
                            <a:gs pos="100000">
                              <a:srgbClr val="ff9900"/>
                            </a:gs>
                          </a:gsLst>
                          <a:lin ang="5400000"/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>
                          <a:off x="1873080" y="4384080"/>
                          <a:ext cx="557280" cy="50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36">
                              <a:moveTo>
                                <a:pt x="370" y="330"/>
                              </a:moveTo>
                              <a:cubicBezTo>
                                <a:pt x="282" y="0"/>
                                <a:pt x="176" y="176"/>
                                <a:pt x="0" y="142"/>
                              </a:cubicBezTo>
                              <a:cubicBezTo>
                                <a:pt x="28" y="190"/>
                                <a:pt x="102" y="227"/>
                                <a:pt x="164" y="258"/>
                              </a:cubicBezTo>
                              <a:cubicBezTo>
                                <a:pt x="226" y="289"/>
                                <a:pt x="330" y="336"/>
                                <a:pt x="370" y="330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54600"/>
                            </a:gs>
                            <a:gs pos="100000">
                              <a:srgbClr val="ff99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3" name=""/>
                    <p:cNvGrpSpPr/>
                    <p:nvPr/>
                  </p:nvGrpSpPr>
                  <p:grpSpPr>
                    <a:xfrm>
                      <a:off x="2162520" y="4375440"/>
                      <a:ext cx="4770720" cy="2032200"/>
                      <a:chOff x="2162520" y="4375440"/>
                      <a:chExt cx="4770720" cy="2032200"/>
                    </a:xfrm>
                  </p:grpSpPr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3023640" y="4507920"/>
                        <a:ext cx="2882880" cy="178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14" h="1185">
                            <a:moveTo>
                              <a:pt x="561" y="43"/>
                            </a:moveTo>
                            <a:cubicBezTo>
                              <a:pt x="852" y="13"/>
                              <a:pt x="1680" y="0"/>
                              <a:pt x="1905" y="168"/>
                            </a:cubicBezTo>
                            <a:lnTo>
                              <a:pt x="1914" y="1051"/>
                            </a:lnTo>
                            <a:cubicBezTo>
                              <a:pt x="1821" y="1185"/>
                              <a:pt x="1506" y="974"/>
                              <a:pt x="1348" y="974"/>
                            </a:cubicBezTo>
                            <a:cubicBezTo>
                              <a:pt x="1190" y="974"/>
                              <a:pt x="1087" y="1049"/>
                              <a:pt x="964" y="1051"/>
                            </a:cubicBezTo>
                            <a:cubicBezTo>
                              <a:pt x="841" y="1053"/>
                              <a:pt x="729" y="989"/>
                              <a:pt x="609" y="984"/>
                            </a:cubicBezTo>
                            <a:cubicBezTo>
                              <a:pt x="489" y="979"/>
                              <a:pt x="343" y="1025"/>
                              <a:pt x="244" y="1022"/>
                            </a:cubicBezTo>
                            <a:cubicBezTo>
                              <a:pt x="145" y="1019"/>
                              <a:pt x="28" y="1076"/>
                              <a:pt x="14" y="964"/>
                            </a:cubicBezTo>
                            <a:cubicBezTo>
                              <a:pt x="0" y="852"/>
                              <a:pt x="67" y="504"/>
                              <a:pt x="158" y="350"/>
                            </a:cubicBezTo>
                            <a:cubicBezTo>
                              <a:pt x="321" y="24"/>
                              <a:pt x="270" y="73"/>
                              <a:pt x="561" y="43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9900"/>
                          </a:gs>
                          <a:gs pos="50000">
                            <a:srgbClr val="ffff99"/>
                          </a:gs>
                          <a:gs pos="100000">
                            <a:srgbClr val="ff9900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2162520" y="4375440"/>
                        <a:ext cx="1863000" cy="174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7" h="1158">
                            <a:moveTo>
                              <a:pt x="0" y="1014"/>
                            </a:moveTo>
                            <a:cubicBezTo>
                              <a:pt x="67" y="803"/>
                              <a:pt x="67" y="736"/>
                              <a:pt x="115" y="592"/>
                            </a:cubicBezTo>
                            <a:cubicBezTo>
                              <a:pt x="163" y="448"/>
                              <a:pt x="203" y="248"/>
                              <a:pt x="288" y="150"/>
                            </a:cubicBezTo>
                            <a:cubicBezTo>
                              <a:pt x="373" y="52"/>
                              <a:pt x="472" y="12"/>
                              <a:pt x="624" y="6"/>
                            </a:cubicBezTo>
                            <a:cubicBezTo>
                              <a:pt x="776" y="0"/>
                              <a:pt x="1163" y="62"/>
                              <a:pt x="1200" y="112"/>
                            </a:cubicBezTo>
                            <a:cubicBezTo>
                              <a:pt x="1237" y="162"/>
                              <a:pt x="941" y="130"/>
                              <a:pt x="845" y="304"/>
                            </a:cubicBezTo>
                            <a:cubicBezTo>
                              <a:pt x="749" y="478"/>
                              <a:pt x="614" y="726"/>
                              <a:pt x="624" y="1158"/>
                            </a:cubicBezTo>
                            <a:cubicBezTo>
                              <a:pt x="211" y="1072"/>
                              <a:pt x="307" y="1004"/>
                              <a:pt x="0" y="1014"/>
                            </a:cubicBez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56" name=""/>
                      <p:cNvGrpSpPr/>
                      <p:nvPr/>
                    </p:nvGrpSpPr>
                    <p:grpSpPr>
                      <a:xfrm>
                        <a:off x="5849280" y="4384080"/>
                        <a:ext cx="1083960" cy="2023560"/>
                        <a:chOff x="5849280" y="4384080"/>
                        <a:chExt cx="1083960" cy="2023560"/>
                      </a:xfrm>
                    </p:grpSpPr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>
                          <a:off x="6499800" y="4384080"/>
                          <a:ext cx="43344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>
                          <a:off x="6210360" y="4745160"/>
                          <a:ext cx="505800" cy="1373400"/>
                        </a:xfrm>
                        <a:prstGeom prst="flowChartTerminator">
                          <a:avLst/>
                        </a:prstGeom>
                        <a:solidFill>
                          <a:srgbClr val="993300"/>
                        </a:soli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>
                          <a:off x="5849280" y="4456440"/>
                          <a:ext cx="50580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60" name=""/>
                <p:cNvSpPr/>
                <p:nvPr/>
              </p:nvSpPr>
              <p:spPr>
                <a:xfrm>
                  <a:off x="2180880" y="4072680"/>
                  <a:ext cx="415440" cy="167040"/>
                </a:xfrm>
                <a:custGeom>
                  <a:avLst/>
                  <a:gdLst/>
                  <a:ahLst/>
                  <a:rect l="l" t="t" r="r" b="b"/>
                  <a:pathLst>
                    <a:path w="276" h="111">
                      <a:moveTo>
                        <a:pt x="0" y="19"/>
                      </a:moveTo>
                      <a:cubicBezTo>
                        <a:pt x="22" y="19"/>
                        <a:pt x="86" y="0"/>
                        <a:pt x="132" y="15"/>
                      </a:cubicBezTo>
                      <a:cubicBezTo>
                        <a:pt x="178" y="30"/>
                        <a:pt x="228" y="67"/>
                        <a:pt x="276" y="11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307240" y="4456800"/>
                <a:ext cx="3510000" cy="1589760"/>
                <a:chOff x="2307240" y="4456800"/>
                <a:chExt cx="3510000" cy="158976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3174480" y="4601160"/>
                  <a:ext cx="2642760" cy="1413360"/>
                  <a:chOff x="3174480" y="4601160"/>
                  <a:chExt cx="2642760" cy="141336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174480" y="5324040"/>
                    <a:ext cx="2642760" cy="690480"/>
                    <a:chOff x="3174480" y="5324040"/>
                    <a:chExt cx="2642760" cy="69048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34635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3607920" y="575748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39697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47649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3969720" y="55720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4258800" y="58611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454788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563220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32468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331160" y="53960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4837320" y="58294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1260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570456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317448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52711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5559840" y="554076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3753000" y="4601160"/>
                    <a:ext cx="1951200" cy="505440"/>
                    <a:chOff x="3753000" y="4601160"/>
                    <a:chExt cx="1951200" cy="50544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11408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90896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454788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27076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382500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186440" y="4601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5559480" y="481788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519840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4475520" y="489024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5559480" y="50346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3753000" y="503460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2307240" y="4456800"/>
                  <a:ext cx="1532520" cy="1589760"/>
                  <a:chOff x="2307240" y="4456800"/>
                  <a:chExt cx="1532520" cy="15897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259632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523960" y="55411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52396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813040" y="58298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668680" y="53960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52396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V="1">
                    <a:off x="2813040" y="5250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813040" y="51073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668680" y="49622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668680" y="56854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885400" y="5541120"/>
                    <a:ext cx="7200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030120" y="53960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03012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379600" y="546840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30724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957400" y="597456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451960" y="52516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102480" y="489024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9574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95740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102480" y="460116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3912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24684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813040" y="48178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74068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46356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753000" y="452880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"/>
            <p:cNvSpPr/>
            <p:nvPr/>
          </p:nvSpPr>
          <p:spPr>
            <a:xfrm>
              <a:off x="3301560" y="5086080"/>
              <a:ext cx="2023920" cy="114120"/>
            </a:xfrm>
            <a:custGeom>
              <a:avLst/>
              <a:gdLst/>
              <a:ahLst/>
              <a:rect l="l" t="t" r="r" b="b"/>
              <a:pathLst>
                <a:path w="1344" h="76">
                  <a:moveTo>
                    <a:pt x="0" y="14"/>
                  </a:moveTo>
                  <a:cubicBezTo>
                    <a:pt x="69" y="24"/>
                    <a:pt x="265" y="76"/>
                    <a:pt x="414" y="74"/>
                  </a:cubicBezTo>
                  <a:cubicBezTo>
                    <a:pt x="563" y="72"/>
                    <a:pt x="739" y="4"/>
                    <a:pt x="894" y="2"/>
                  </a:cubicBezTo>
                  <a:cubicBezTo>
                    <a:pt x="1049" y="0"/>
                    <a:pt x="1250" y="50"/>
                    <a:pt x="1344" y="6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13400" y="4818240"/>
              <a:ext cx="87120" cy="43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6"/>
          <a:stretch/>
        </p:blipFill>
        <p:spPr>
          <a:xfrm>
            <a:off x="3419640" y="4686480"/>
            <a:ext cx="2295360" cy="1790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1"/>
          <a:stretch/>
        </p:blipFill>
        <p:spPr>
          <a:xfrm>
            <a:off x="2590920" y="28195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2438280"/>
            <a:ext cx="167616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4"/>
          <a:stretch/>
        </p:blipFill>
        <p:spPr>
          <a:xfrm>
            <a:off x="6477120" y="4038480"/>
            <a:ext cx="198108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666 -0.48703 C -0.80139 -0.5037 -0.74757 -0.52037 -0.72899 -0.52037 C -0.61007 -0.52037 -0.48784 -0.25926 -0.48784 0.00185 C -0.48784 -0.12986 -0.42673 -0.25926 -0.36961 -0.25926 C -0.30833 -0.25926 -0.25 -0.12778 -0.25 0.00185 C -0.25 -0.06319 -0.21944 -0.12986 -0.18889 -0.12986 C -0.15816 -0.12986 -0.1276 -0.06504 -0.1276 0.00185 C -0.1276 -0.03171 -0.11232 -0.06319 -0.09705 -0.06319 C -0.08177 -0.06319 -0.06649 -0.02986 -0.06649 0.00185 C -0.06649 -0.01504 -0.0585 -0.03171 -0.05121 -0.03171 C -0.04722 -0.03171 -0.03593 -0.01504 -0.03593 0.00185 C -0.03593 -0.00671 -0.03194 -0.01504 -0.02795 -0.01504 C -0.02795 -0.01273 -0.01996 -0.00671 -0.01996 0.00185 C -0.01996 -0.00254 -0.01996 -0.00671 -0.01597 -0.00671 C -0.01597 -0.0044 -0.01198 -0.00231 -0.01198 0.00185 C -0.01198 -0.00046 -0.01198 -0.00254 -0.01198 -0.0044 C -0.00798 -0.0044 -0.00798 -0.00231 -0.00798 -2.59259E-006 C -0.00399 -2.59259E-006 -0.00399 -0.00231 -0.00399 -0.0044 C -3.33332999999988E-006 -0.0044 -3.33333E-006 -0.00231 -3.33333E-006 -2.59259E-006 E">
                                      <p:cBhvr>
                                        <p:cTn id="98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1600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0000"/>
                </a:solidFill>
                <a:latin typeface="Arial Rounded MT Bold"/>
              </a:rPr>
              <a:t>The rabbit is in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685800" y="4495680"/>
            <a:ext cx="1209600" cy="187668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1295280" y="3733920"/>
            <a:ext cx="5637960" cy="2674440"/>
            <a:chOff x="1295280" y="3733920"/>
            <a:chExt cx="5637960" cy="2674440"/>
          </a:xfrm>
        </p:grpSpPr>
        <p:grpSp>
          <p:nvGrpSpPr>
            <p:cNvPr id="438" name=""/>
            <p:cNvGrpSpPr/>
            <p:nvPr/>
          </p:nvGrpSpPr>
          <p:grpSpPr>
            <a:xfrm>
              <a:off x="1295280" y="3733920"/>
              <a:ext cx="5637960" cy="2674440"/>
              <a:chOff x="1295280" y="3733920"/>
              <a:chExt cx="5637960" cy="267444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1295280" y="3733920"/>
                <a:ext cx="5637960" cy="2674440"/>
                <a:chOff x="1295280" y="3733920"/>
                <a:chExt cx="5637960" cy="267444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1295280" y="3733920"/>
                  <a:ext cx="5637960" cy="2674440"/>
                  <a:chOff x="1295280" y="3733920"/>
                  <a:chExt cx="5637960" cy="267444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1728720" y="4023000"/>
                    <a:ext cx="794880" cy="1662480"/>
                  </a:xfrm>
                  <a:prstGeom prst="rect">
                    <a:avLst/>
                  </a:prstGeom>
                  <a:solidFill>
                    <a:srgbClr val="99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1295280" y="3733920"/>
                    <a:ext cx="5637960" cy="2674440"/>
                    <a:chOff x="1295280" y="3733920"/>
                    <a:chExt cx="5637960" cy="2674440"/>
                  </a:xfrm>
                </p:grpSpPr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1295280" y="3733920"/>
                      <a:ext cx="4626360" cy="2674440"/>
                      <a:chOff x="1295280" y="3733920"/>
                      <a:chExt cx="4626360" cy="267444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2307240" y="373392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1728720" y="5468760"/>
                        <a:ext cx="4192920" cy="505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1801080" y="4962600"/>
                        <a:ext cx="1806840" cy="7228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 rot="15663600">
                        <a:off x="1729440" y="3555360"/>
                        <a:ext cx="578160" cy="1154880"/>
                      </a:xfrm>
                      <a:prstGeom prst="flowChartDelay">
                        <a:avLst/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1295280" y="380628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49" name=""/>
                      <p:cNvGrpSpPr/>
                      <p:nvPr/>
                    </p:nvGrpSpPr>
                    <p:grpSpPr>
                      <a:xfrm>
                        <a:off x="1445760" y="3989880"/>
                        <a:ext cx="1909800" cy="1020600"/>
                        <a:chOff x="1445760" y="3989880"/>
                        <a:chExt cx="1909800" cy="1020600"/>
                      </a:xfrm>
                    </p:grpSpPr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>
                          <a:off x="1445760" y="3989880"/>
                          <a:ext cx="1909800" cy="102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8" h="678">
                              <a:moveTo>
                                <a:pt x="764" y="646"/>
                              </a:moveTo>
                              <a:cubicBezTo>
                                <a:pt x="708" y="662"/>
                                <a:pt x="516" y="678"/>
                                <a:pt x="428" y="646"/>
                              </a:cubicBezTo>
                              <a:cubicBezTo>
                                <a:pt x="340" y="614"/>
                                <a:pt x="292" y="502"/>
                                <a:pt x="236" y="454"/>
                              </a:cubicBezTo>
                              <a:cubicBezTo>
                                <a:pt x="180" y="406"/>
                                <a:pt x="176" y="386"/>
                                <a:pt x="92" y="358"/>
                              </a:cubicBezTo>
                              <a:cubicBezTo>
                                <a:pt x="0" y="330"/>
                                <a:pt x="45" y="309"/>
                                <a:pt x="140" y="262"/>
                              </a:cubicBezTo>
                              <a:cubicBezTo>
                                <a:pt x="195" y="217"/>
                                <a:pt x="364" y="108"/>
                                <a:pt x="422" y="90"/>
                              </a:cubicBezTo>
                              <a:cubicBezTo>
                                <a:pt x="475" y="72"/>
                                <a:pt x="580" y="58"/>
                                <a:pt x="742" y="0"/>
                              </a:cubicBezTo>
                              <a:cubicBezTo>
                                <a:pt x="768" y="20"/>
                                <a:pt x="800" y="42"/>
                                <a:pt x="860" y="70"/>
                              </a:cubicBezTo>
                              <a:cubicBezTo>
                                <a:pt x="920" y="98"/>
                                <a:pt x="1044" y="134"/>
                                <a:pt x="1100" y="166"/>
                              </a:cubicBezTo>
                              <a:cubicBezTo>
                                <a:pt x="1156" y="198"/>
                                <a:pt x="1180" y="230"/>
                                <a:pt x="1196" y="262"/>
                              </a:cubicBezTo>
                              <a:cubicBezTo>
                                <a:pt x="1212" y="294"/>
                                <a:pt x="1268" y="310"/>
                                <a:pt x="1196" y="358"/>
                              </a:cubicBezTo>
                              <a:cubicBezTo>
                                <a:pt x="1124" y="406"/>
                                <a:pt x="836" y="494"/>
                                <a:pt x="764" y="550"/>
                              </a:cubicBezTo>
                              <a:cubicBezTo>
                                <a:pt x="692" y="606"/>
                                <a:pt x="820" y="630"/>
                                <a:pt x="764" y="646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9900"/>
                            </a:gs>
                            <a:gs pos="50000">
                              <a:srgbClr val="ffff99"/>
                            </a:gs>
                            <a:gs pos="100000">
                              <a:srgbClr val="ff9900"/>
                            </a:gs>
                          </a:gsLst>
                          <a:lin ang="5400000"/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>
                          <a:off x="1873080" y="4384080"/>
                          <a:ext cx="557280" cy="50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36">
                              <a:moveTo>
                                <a:pt x="370" y="330"/>
                              </a:moveTo>
                              <a:cubicBezTo>
                                <a:pt x="282" y="0"/>
                                <a:pt x="176" y="176"/>
                                <a:pt x="0" y="142"/>
                              </a:cubicBezTo>
                              <a:cubicBezTo>
                                <a:pt x="28" y="190"/>
                                <a:pt x="102" y="227"/>
                                <a:pt x="164" y="258"/>
                              </a:cubicBezTo>
                              <a:cubicBezTo>
                                <a:pt x="226" y="289"/>
                                <a:pt x="330" y="336"/>
                                <a:pt x="370" y="330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54600"/>
                            </a:gs>
                            <a:gs pos="100000">
                              <a:srgbClr val="ff99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52" name=""/>
                    <p:cNvGrpSpPr/>
                    <p:nvPr/>
                  </p:nvGrpSpPr>
                  <p:grpSpPr>
                    <a:xfrm>
                      <a:off x="2162520" y="4375440"/>
                      <a:ext cx="4770720" cy="2032200"/>
                      <a:chOff x="2162520" y="4375440"/>
                      <a:chExt cx="4770720" cy="2032200"/>
                    </a:xfrm>
                  </p:grpSpPr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3023640" y="4507920"/>
                        <a:ext cx="2882880" cy="178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14" h="1185">
                            <a:moveTo>
                              <a:pt x="561" y="43"/>
                            </a:moveTo>
                            <a:cubicBezTo>
                              <a:pt x="852" y="13"/>
                              <a:pt x="1680" y="0"/>
                              <a:pt x="1905" y="168"/>
                            </a:cubicBezTo>
                            <a:lnTo>
                              <a:pt x="1914" y="1051"/>
                            </a:lnTo>
                            <a:cubicBezTo>
                              <a:pt x="1821" y="1185"/>
                              <a:pt x="1506" y="974"/>
                              <a:pt x="1348" y="974"/>
                            </a:cubicBezTo>
                            <a:cubicBezTo>
                              <a:pt x="1190" y="974"/>
                              <a:pt x="1087" y="1049"/>
                              <a:pt x="964" y="1051"/>
                            </a:cubicBezTo>
                            <a:cubicBezTo>
                              <a:pt x="841" y="1053"/>
                              <a:pt x="729" y="989"/>
                              <a:pt x="609" y="984"/>
                            </a:cubicBezTo>
                            <a:cubicBezTo>
                              <a:pt x="489" y="979"/>
                              <a:pt x="343" y="1025"/>
                              <a:pt x="244" y="1022"/>
                            </a:cubicBezTo>
                            <a:cubicBezTo>
                              <a:pt x="145" y="1019"/>
                              <a:pt x="28" y="1076"/>
                              <a:pt x="14" y="964"/>
                            </a:cubicBezTo>
                            <a:cubicBezTo>
                              <a:pt x="0" y="852"/>
                              <a:pt x="67" y="504"/>
                              <a:pt x="158" y="350"/>
                            </a:cubicBezTo>
                            <a:cubicBezTo>
                              <a:pt x="321" y="24"/>
                              <a:pt x="270" y="73"/>
                              <a:pt x="561" y="43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9900"/>
                          </a:gs>
                          <a:gs pos="50000">
                            <a:srgbClr val="ffff99"/>
                          </a:gs>
                          <a:gs pos="100000">
                            <a:srgbClr val="ff9900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2162520" y="4375440"/>
                        <a:ext cx="1863000" cy="174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7" h="1158">
                            <a:moveTo>
                              <a:pt x="0" y="1014"/>
                            </a:moveTo>
                            <a:cubicBezTo>
                              <a:pt x="67" y="803"/>
                              <a:pt x="67" y="736"/>
                              <a:pt x="115" y="592"/>
                            </a:cubicBezTo>
                            <a:cubicBezTo>
                              <a:pt x="163" y="448"/>
                              <a:pt x="203" y="248"/>
                              <a:pt x="288" y="150"/>
                            </a:cubicBezTo>
                            <a:cubicBezTo>
                              <a:pt x="373" y="52"/>
                              <a:pt x="472" y="12"/>
                              <a:pt x="624" y="6"/>
                            </a:cubicBezTo>
                            <a:cubicBezTo>
                              <a:pt x="776" y="0"/>
                              <a:pt x="1163" y="62"/>
                              <a:pt x="1200" y="112"/>
                            </a:cubicBezTo>
                            <a:cubicBezTo>
                              <a:pt x="1237" y="162"/>
                              <a:pt x="941" y="130"/>
                              <a:pt x="845" y="304"/>
                            </a:cubicBezTo>
                            <a:cubicBezTo>
                              <a:pt x="749" y="478"/>
                              <a:pt x="614" y="726"/>
                              <a:pt x="624" y="1158"/>
                            </a:cubicBezTo>
                            <a:cubicBezTo>
                              <a:pt x="211" y="1072"/>
                              <a:pt x="307" y="1004"/>
                              <a:pt x="0" y="1014"/>
                            </a:cubicBez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55" name=""/>
                      <p:cNvGrpSpPr/>
                      <p:nvPr/>
                    </p:nvGrpSpPr>
                    <p:grpSpPr>
                      <a:xfrm>
                        <a:off x="5849280" y="4384080"/>
                        <a:ext cx="1083960" cy="2023560"/>
                        <a:chOff x="5849280" y="4384080"/>
                        <a:chExt cx="1083960" cy="2023560"/>
                      </a:xfrm>
                    </p:grpSpPr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>
                          <a:off x="6499800" y="4384080"/>
                          <a:ext cx="43344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6210360" y="4745160"/>
                          <a:ext cx="505800" cy="1373400"/>
                        </a:xfrm>
                        <a:prstGeom prst="flowChartTerminator">
                          <a:avLst/>
                        </a:prstGeom>
                        <a:solidFill>
                          <a:srgbClr val="993300"/>
                        </a:soli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>
                          <a:off x="5849280" y="4456440"/>
                          <a:ext cx="50580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459" name=""/>
                <p:cNvSpPr/>
                <p:nvPr/>
              </p:nvSpPr>
              <p:spPr>
                <a:xfrm>
                  <a:off x="2180880" y="4072680"/>
                  <a:ext cx="415440" cy="167040"/>
                </a:xfrm>
                <a:custGeom>
                  <a:avLst/>
                  <a:gdLst/>
                  <a:ahLst/>
                  <a:rect l="l" t="t" r="r" b="b"/>
                  <a:pathLst>
                    <a:path w="276" h="111">
                      <a:moveTo>
                        <a:pt x="0" y="19"/>
                      </a:moveTo>
                      <a:cubicBezTo>
                        <a:pt x="22" y="19"/>
                        <a:pt x="86" y="0"/>
                        <a:pt x="132" y="15"/>
                      </a:cubicBezTo>
                      <a:cubicBezTo>
                        <a:pt x="178" y="30"/>
                        <a:pt x="228" y="67"/>
                        <a:pt x="276" y="11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307240" y="4456800"/>
                <a:ext cx="3510000" cy="1589760"/>
                <a:chOff x="2307240" y="4456800"/>
                <a:chExt cx="3510000" cy="158976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3174480" y="4601160"/>
                  <a:ext cx="2642760" cy="1413360"/>
                  <a:chOff x="3174480" y="4601160"/>
                  <a:chExt cx="2642760" cy="1413360"/>
                </a:xfrm>
              </p:grpSpPr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3174480" y="5324040"/>
                    <a:ext cx="2642760" cy="690480"/>
                    <a:chOff x="3174480" y="5324040"/>
                    <a:chExt cx="2642760" cy="69048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34635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3607920" y="575748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39697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47649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3969720" y="55720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4258800" y="58611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454788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63220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32468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331160" y="53960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837320" y="58294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1260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570456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317448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52711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5559840" y="554076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3753000" y="4601160"/>
                    <a:ext cx="1951200" cy="505440"/>
                    <a:chOff x="3753000" y="4601160"/>
                    <a:chExt cx="1951200" cy="50544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411408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490896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454788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527076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382500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4186440" y="4601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5559480" y="481788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519840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4475520" y="489024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5559480" y="50346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3753000" y="503460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2307240" y="4456800"/>
                  <a:ext cx="1532520" cy="1589760"/>
                  <a:chOff x="2307240" y="4456800"/>
                  <a:chExt cx="1532520" cy="158976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259632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523960" y="55411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52396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813040" y="58298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668680" y="53960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52396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V="1">
                    <a:off x="2813040" y="5250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813040" y="51073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668680" y="49622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668680" y="56854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885400" y="5541120"/>
                    <a:ext cx="7200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030120" y="53960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303012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379600" y="546840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30724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957400" y="597456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451960" y="52516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3102480" y="489024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9574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95740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3102480" y="460116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33912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324684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813040" y="48178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74068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46356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753000" y="452880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9" name=""/>
            <p:cNvSpPr/>
            <p:nvPr/>
          </p:nvSpPr>
          <p:spPr>
            <a:xfrm>
              <a:off x="3301560" y="5086080"/>
              <a:ext cx="2023920" cy="114120"/>
            </a:xfrm>
            <a:custGeom>
              <a:avLst/>
              <a:gdLst/>
              <a:ahLst/>
              <a:rect l="l" t="t" r="r" b="b"/>
              <a:pathLst>
                <a:path w="1344" h="76">
                  <a:moveTo>
                    <a:pt x="0" y="14"/>
                  </a:moveTo>
                  <a:cubicBezTo>
                    <a:pt x="69" y="24"/>
                    <a:pt x="265" y="76"/>
                    <a:pt x="414" y="74"/>
                  </a:cubicBezTo>
                  <a:cubicBezTo>
                    <a:pt x="563" y="72"/>
                    <a:pt x="739" y="4"/>
                    <a:pt x="894" y="2"/>
                  </a:cubicBezTo>
                  <a:cubicBezTo>
                    <a:pt x="1049" y="0"/>
                    <a:pt x="1250" y="50"/>
                    <a:pt x="1344" y="6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13400" y="4818240"/>
              <a:ext cx="87120" cy="43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" descr=""/>
          <p:cNvPicPr/>
          <p:nvPr/>
        </p:nvPicPr>
        <p:blipFill>
          <a:blip r:embed="rId7"/>
          <a:stretch/>
        </p:blipFill>
        <p:spPr>
          <a:xfrm>
            <a:off x="6477120" y="4038480"/>
            <a:ext cx="1981080" cy="23338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8"/>
          <a:stretch/>
        </p:blipFill>
        <p:spPr>
          <a:xfrm>
            <a:off x="2590920" y="28195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9"/>
          <a:stretch/>
        </p:blipFill>
        <p:spPr>
          <a:xfrm>
            <a:off x="3419640" y="4686480"/>
            <a:ext cx="2295360" cy="179064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25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2940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5 -0.63195 C -0.1717 -0.65371 -0.16024 -0.67523 -0.15625 -0.67523 C -0.13073 -0.67523 -0.10468 -0.33635 -0.10468 0.00254 C -0.10468 -0.16852 -0.09149 -0.33635 -0.07934 -0.33635 C -0.06614 -0.33635 -0.05364 -0.16551 -0.05364 0.00254 C -0.05364 -0.08172 -0.04705 -0.16852 -0.04045 -0.16852 C -0.03402 -0.16852 -0.02743 -0.08426 -0.02743 0.00254 C -0.02743 -0.04098 -0.02413 -0.08172 -0.02083 -0.08172 C -0.01753 -0.08172 -0.01441 -0.03843 -0.01441 0.00254 C -0.01441 -0.01922 -0.01267 -0.04098 -0.01111 -0.04098 C -0.01024 -0.04098 -0.00781 -0.01922 -0.00781 0.00254 C -0.00781 -0.00834 -0.00694 -0.01922 -0.00607 -0.01922 C -0.00607 -0.01644 -0.00434 -0.00834 -0.00434 0.00254 C -0.00434 -0.00324 -0.00434 -0.00834 -0.00347 -0.00834 C -0.00347 -0.00556 -0.0026 -0.00278 -0.0026 0.00254 C -0.0026 -0.00047 -0.0026 -0.00324 -0.0026 -0.00556 C -0.00173 -0.00556 -0.00173 -0.00278 -0.00173 2.96296E-006 C -0.00086 2.96296E-006 -0.00086 -0.00278 -0.00086 -0.00556 C -3.33332999999999E-006 -0.00556 -3.33333E-006 -0.00278 -3.33333E-006 2.96296E-006 E">
                                      <p:cBhvr>
                                        <p:cTn id="144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41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0000"/>
                </a:solidFill>
                <a:latin typeface="Arial Rounded MT Bold"/>
              </a:rPr>
              <a:t>The snake is under the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685800" y="4495680"/>
            <a:ext cx="1209600" cy="18766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7"/>
          <a:stretch/>
        </p:blipFill>
        <p:spPr>
          <a:xfrm>
            <a:off x="2819520" y="5575320"/>
            <a:ext cx="1752480" cy="97776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1295280" y="3733920"/>
            <a:ext cx="5637960" cy="2674440"/>
            <a:chOff x="1295280" y="3733920"/>
            <a:chExt cx="5637960" cy="2674440"/>
          </a:xfrm>
        </p:grpSpPr>
        <p:grpSp>
          <p:nvGrpSpPr>
            <p:cNvPr id="538" name=""/>
            <p:cNvGrpSpPr/>
            <p:nvPr/>
          </p:nvGrpSpPr>
          <p:grpSpPr>
            <a:xfrm>
              <a:off x="1295280" y="3733920"/>
              <a:ext cx="5637960" cy="2674440"/>
              <a:chOff x="1295280" y="3733920"/>
              <a:chExt cx="5637960" cy="267444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1295280" y="3733920"/>
                <a:ext cx="5637960" cy="2674440"/>
                <a:chOff x="1295280" y="3733920"/>
                <a:chExt cx="5637960" cy="267444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1295280" y="3733920"/>
                  <a:ext cx="5637960" cy="2674440"/>
                  <a:chOff x="1295280" y="3733920"/>
                  <a:chExt cx="5637960" cy="26744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1728720" y="4023000"/>
                    <a:ext cx="794880" cy="1662480"/>
                  </a:xfrm>
                  <a:prstGeom prst="rect">
                    <a:avLst/>
                  </a:prstGeom>
                  <a:solidFill>
                    <a:srgbClr val="99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1295280" y="3733920"/>
                    <a:ext cx="5637960" cy="2674440"/>
                    <a:chOff x="1295280" y="3733920"/>
                    <a:chExt cx="5637960" cy="2674440"/>
                  </a:xfrm>
                </p:grpSpPr>
                <p:grpSp>
                  <p:nvGrpSpPr>
                    <p:cNvPr id="543" name=""/>
                    <p:cNvGrpSpPr/>
                    <p:nvPr/>
                  </p:nvGrpSpPr>
                  <p:grpSpPr>
                    <a:xfrm>
                      <a:off x="1295280" y="3733920"/>
                      <a:ext cx="4626360" cy="2674440"/>
                      <a:chOff x="1295280" y="3733920"/>
                      <a:chExt cx="4626360" cy="2674440"/>
                    </a:xfrm>
                  </p:grpSpPr>
                  <p:sp>
                    <p:nvSpPr>
                      <p:cNvPr id="544" name=""/>
                      <p:cNvSpPr/>
                      <p:nvPr/>
                    </p:nvSpPr>
                    <p:spPr>
                      <a:xfrm>
                        <a:off x="2307240" y="373392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"/>
                      <p:cNvSpPr/>
                      <p:nvPr/>
                    </p:nvSpPr>
                    <p:spPr>
                      <a:xfrm>
                        <a:off x="1728720" y="5468760"/>
                        <a:ext cx="4192920" cy="505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1801080" y="4962600"/>
                        <a:ext cx="1806840" cy="7228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rot="15663600">
                        <a:off x="1729440" y="3555360"/>
                        <a:ext cx="578160" cy="1154880"/>
                      </a:xfrm>
                      <a:prstGeom prst="flowChartDelay">
                        <a:avLst/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>
                        <a:off x="1295280" y="380628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49" name=""/>
                      <p:cNvGrpSpPr/>
                      <p:nvPr/>
                    </p:nvGrpSpPr>
                    <p:grpSpPr>
                      <a:xfrm>
                        <a:off x="1445760" y="3989880"/>
                        <a:ext cx="1909800" cy="1020600"/>
                        <a:chOff x="1445760" y="3989880"/>
                        <a:chExt cx="1909800" cy="1020600"/>
                      </a:xfrm>
                    </p:grpSpPr>
                    <p:sp>
                      <p:nvSpPr>
                        <p:cNvPr id="550" name=""/>
                        <p:cNvSpPr/>
                        <p:nvPr/>
                      </p:nvSpPr>
                      <p:spPr>
                        <a:xfrm>
                          <a:off x="1445760" y="3989880"/>
                          <a:ext cx="1909800" cy="102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8" h="678">
                              <a:moveTo>
                                <a:pt x="764" y="646"/>
                              </a:moveTo>
                              <a:cubicBezTo>
                                <a:pt x="708" y="662"/>
                                <a:pt x="516" y="678"/>
                                <a:pt x="428" y="646"/>
                              </a:cubicBezTo>
                              <a:cubicBezTo>
                                <a:pt x="340" y="614"/>
                                <a:pt x="292" y="502"/>
                                <a:pt x="236" y="454"/>
                              </a:cubicBezTo>
                              <a:cubicBezTo>
                                <a:pt x="180" y="406"/>
                                <a:pt x="176" y="386"/>
                                <a:pt x="92" y="358"/>
                              </a:cubicBezTo>
                              <a:cubicBezTo>
                                <a:pt x="0" y="330"/>
                                <a:pt x="45" y="309"/>
                                <a:pt x="140" y="262"/>
                              </a:cubicBezTo>
                              <a:cubicBezTo>
                                <a:pt x="195" y="217"/>
                                <a:pt x="364" y="108"/>
                                <a:pt x="422" y="90"/>
                              </a:cubicBezTo>
                              <a:cubicBezTo>
                                <a:pt x="475" y="72"/>
                                <a:pt x="580" y="58"/>
                                <a:pt x="742" y="0"/>
                              </a:cubicBezTo>
                              <a:cubicBezTo>
                                <a:pt x="768" y="20"/>
                                <a:pt x="800" y="42"/>
                                <a:pt x="860" y="70"/>
                              </a:cubicBezTo>
                              <a:cubicBezTo>
                                <a:pt x="920" y="98"/>
                                <a:pt x="1044" y="134"/>
                                <a:pt x="1100" y="166"/>
                              </a:cubicBezTo>
                              <a:cubicBezTo>
                                <a:pt x="1156" y="198"/>
                                <a:pt x="1180" y="230"/>
                                <a:pt x="1196" y="262"/>
                              </a:cubicBezTo>
                              <a:cubicBezTo>
                                <a:pt x="1212" y="294"/>
                                <a:pt x="1268" y="310"/>
                                <a:pt x="1196" y="358"/>
                              </a:cubicBezTo>
                              <a:cubicBezTo>
                                <a:pt x="1124" y="406"/>
                                <a:pt x="836" y="494"/>
                                <a:pt x="764" y="550"/>
                              </a:cubicBezTo>
                              <a:cubicBezTo>
                                <a:pt x="692" y="606"/>
                                <a:pt x="820" y="630"/>
                                <a:pt x="764" y="646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9900"/>
                            </a:gs>
                            <a:gs pos="50000">
                              <a:srgbClr val="ffff99"/>
                            </a:gs>
                            <a:gs pos="100000">
                              <a:srgbClr val="ff9900"/>
                            </a:gs>
                          </a:gsLst>
                          <a:lin ang="5400000"/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1" name=""/>
                        <p:cNvSpPr/>
                        <p:nvPr/>
                      </p:nvSpPr>
                      <p:spPr>
                        <a:xfrm>
                          <a:off x="1873080" y="4384080"/>
                          <a:ext cx="557280" cy="50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36">
                              <a:moveTo>
                                <a:pt x="370" y="330"/>
                              </a:moveTo>
                              <a:cubicBezTo>
                                <a:pt x="282" y="0"/>
                                <a:pt x="176" y="176"/>
                                <a:pt x="0" y="142"/>
                              </a:cubicBezTo>
                              <a:cubicBezTo>
                                <a:pt x="28" y="190"/>
                                <a:pt x="102" y="227"/>
                                <a:pt x="164" y="258"/>
                              </a:cubicBezTo>
                              <a:cubicBezTo>
                                <a:pt x="226" y="289"/>
                                <a:pt x="330" y="336"/>
                                <a:pt x="370" y="330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54600"/>
                            </a:gs>
                            <a:gs pos="100000">
                              <a:srgbClr val="ff99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52" name=""/>
                    <p:cNvGrpSpPr/>
                    <p:nvPr/>
                  </p:nvGrpSpPr>
                  <p:grpSpPr>
                    <a:xfrm>
                      <a:off x="2162520" y="4375440"/>
                      <a:ext cx="4770720" cy="2032200"/>
                      <a:chOff x="2162520" y="4375440"/>
                      <a:chExt cx="4770720" cy="2032200"/>
                    </a:xfrm>
                  </p:grpSpPr>
                  <p:sp>
                    <p:nvSpPr>
                      <p:cNvPr id="553" name=""/>
                      <p:cNvSpPr/>
                      <p:nvPr/>
                    </p:nvSpPr>
                    <p:spPr>
                      <a:xfrm>
                        <a:off x="3023640" y="4507920"/>
                        <a:ext cx="2882880" cy="178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14" h="1185">
                            <a:moveTo>
                              <a:pt x="561" y="43"/>
                            </a:moveTo>
                            <a:cubicBezTo>
                              <a:pt x="852" y="13"/>
                              <a:pt x="1680" y="0"/>
                              <a:pt x="1905" y="168"/>
                            </a:cubicBezTo>
                            <a:lnTo>
                              <a:pt x="1914" y="1051"/>
                            </a:lnTo>
                            <a:cubicBezTo>
                              <a:pt x="1821" y="1185"/>
                              <a:pt x="1506" y="974"/>
                              <a:pt x="1348" y="974"/>
                            </a:cubicBezTo>
                            <a:cubicBezTo>
                              <a:pt x="1190" y="974"/>
                              <a:pt x="1087" y="1049"/>
                              <a:pt x="964" y="1051"/>
                            </a:cubicBezTo>
                            <a:cubicBezTo>
                              <a:pt x="841" y="1053"/>
                              <a:pt x="729" y="989"/>
                              <a:pt x="609" y="984"/>
                            </a:cubicBezTo>
                            <a:cubicBezTo>
                              <a:pt x="489" y="979"/>
                              <a:pt x="343" y="1025"/>
                              <a:pt x="244" y="1022"/>
                            </a:cubicBezTo>
                            <a:cubicBezTo>
                              <a:pt x="145" y="1019"/>
                              <a:pt x="28" y="1076"/>
                              <a:pt x="14" y="964"/>
                            </a:cubicBezTo>
                            <a:cubicBezTo>
                              <a:pt x="0" y="852"/>
                              <a:pt x="67" y="504"/>
                              <a:pt x="158" y="350"/>
                            </a:cubicBezTo>
                            <a:cubicBezTo>
                              <a:pt x="321" y="24"/>
                              <a:pt x="270" y="73"/>
                              <a:pt x="561" y="43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9900"/>
                          </a:gs>
                          <a:gs pos="50000">
                            <a:srgbClr val="ffff99"/>
                          </a:gs>
                          <a:gs pos="100000">
                            <a:srgbClr val="ff9900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4" name=""/>
                      <p:cNvSpPr/>
                      <p:nvPr/>
                    </p:nvSpPr>
                    <p:spPr>
                      <a:xfrm>
                        <a:off x="2162520" y="4375440"/>
                        <a:ext cx="1863000" cy="174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7" h="1158">
                            <a:moveTo>
                              <a:pt x="0" y="1014"/>
                            </a:moveTo>
                            <a:cubicBezTo>
                              <a:pt x="67" y="803"/>
                              <a:pt x="67" y="736"/>
                              <a:pt x="115" y="592"/>
                            </a:cubicBezTo>
                            <a:cubicBezTo>
                              <a:pt x="163" y="448"/>
                              <a:pt x="203" y="248"/>
                              <a:pt x="288" y="150"/>
                            </a:cubicBezTo>
                            <a:cubicBezTo>
                              <a:pt x="373" y="52"/>
                              <a:pt x="472" y="12"/>
                              <a:pt x="624" y="6"/>
                            </a:cubicBezTo>
                            <a:cubicBezTo>
                              <a:pt x="776" y="0"/>
                              <a:pt x="1163" y="62"/>
                              <a:pt x="1200" y="112"/>
                            </a:cubicBezTo>
                            <a:cubicBezTo>
                              <a:pt x="1237" y="162"/>
                              <a:pt x="941" y="130"/>
                              <a:pt x="845" y="304"/>
                            </a:cubicBezTo>
                            <a:cubicBezTo>
                              <a:pt x="749" y="478"/>
                              <a:pt x="614" y="726"/>
                              <a:pt x="624" y="1158"/>
                            </a:cubicBezTo>
                            <a:cubicBezTo>
                              <a:pt x="211" y="1072"/>
                              <a:pt x="307" y="1004"/>
                              <a:pt x="0" y="1014"/>
                            </a:cubicBez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55" name=""/>
                      <p:cNvGrpSpPr/>
                      <p:nvPr/>
                    </p:nvGrpSpPr>
                    <p:grpSpPr>
                      <a:xfrm>
                        <a:off x="5849280" y="4384080"/>
                        <a:ext cx="1083960" cy="2023560"/>
                        <a:chOff x="5849280" y="4384080"/>
                        <a:chExt cx="1083960" cy="2023560"/>
                      </a:xfrm>
                    </p:grpSpPr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>
                          <a:off x="6499800" y="4384080"/>
                          <a:ext cx="43344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>
                          <a:off x="6210360" y="4745160"/>
                          <a:ext cx="505800" cy="1373400"/>
                        </a:xfrm>
                        <a:prstGeom prst="flowChartTerminator">
                          <a:avLst/>
                        </a:prstGeom>
                        <a:solidFill>
                          <a:srgbClr val="993300"/>
                        </a:soli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>
                          <a:off x="5849280" y="4456440"/>
                          <a:ext cx="50580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559" name=""/>
                <p:cNvSpPr/>
                <p:nvPr/>
              </p:nvSpPr>
              <p:spPr>
                <a:xfrm>
                  <a:off x="2180880" y="4072680"/>
                  <a:ext cx="415440" cy="167040"/>
                </a:xfrm>
                <a:custGeom>
                  <a:avLst/>
                  <a:gdLst/>
                  <a:ahLst/>
                  <a:rect l="l" t="t" r="r" b="b"/>
                  <a:pathLst>
                    <a:path w="276" h="111">
                      <a:moveTo>
                        <a:pt x="0" y="19"/>
                      </a:moveTo>
                      <a:cubicBezTo>
                        <a:pt x="22" y="19"/>
                        <a:pt x="86" y="0"/>
                        <a:pt x="132" y="15"/>
                      </a:cubicBezTo>
                      <a:cubicBezTo>
                        <a:pt x="178" y="30"/>
                        <a:pt x="228" y="67"/>
                        <a:pt x="276" y="11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2307240" y="4456800"/>
                <a:ext cx="3510000" cy="1589760"/>
                <a:chOff x="2307240" y="4456800"/>
                <a:chExt cx="3510000" cy="158976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3174480" y="4601160"/>
                  <a:ext cx="2642760" cy="1413360"/>
                  <a:chOff x="3174480" y="4601160"/>
                  <a:chExt cx="2642760" cy="1413360"/>
                </a:xfrm>
              </p:grpSpPr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3174480" y="5324040"/>
                    <a:ext cx="2642760" cy="690480"/>
                    <a:chOff x="3174480" y="5324040"/>
                    <a:chExt cx="2642760" cy="69048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34635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3607920" y="575748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39697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47649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3969720" y="55720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4258800" y="58611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454788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563220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32468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4331160" y="53960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4837320" y="58294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51260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570456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317448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52711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5559840" y="554076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3753000" y="4601160"/>
                    <a:ext cx="1951200" cy="505440"/>
                    <a:chOff x="3753000" y="4601160"/>
                    <a:chExt cx="1951200" cy="50544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411408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490896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454788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527076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382500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4186440" y="4601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5559480" y="481788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519840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4475520" y="489024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5559480" y="50346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3753000" y="503460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2307240" y="4456800"/>
                  <a:ext cx="1532520" cy="1589760"/>
                  <a:chOff x="2307240" y="4456800"/>
                  <a:chExt cx="1532520" cy="15897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259632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523960" y="55411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52396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813040" y="58298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668680" y="53960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52396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V="1">
                    <a:off x="2813040" y="5250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813040" y="51073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668680" y="49622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668680" y="56854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885400" y="5541120"/>
                    <a:ext cx="7200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3030120" y="53960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303012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379600" y="546840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30724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957400" y="597456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451960" y="52516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3102480" y="489024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9574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95740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3102480" y="460116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3912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324684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813040" y="48178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74068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346356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3753000" y="452880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9" name=""/>
            <p:cNvSpPr/>
            <p:nvPr/>
          </p:nvSpPr>
          <p:spPr>
            <a:xfrm>
              <a:off x="3301560" y="5086080"/>
              <a:ext cx="2023920" cy="114120"/>
            </a:xfrm>
            <a:custGeom>
              <a:avLst/>
              <a:gdLst/>
              <a:ahLst/>
              <a:rect l="l" t="t" r="r" b="b"/>
              <a:pathLst>
                <a:path w="1344" h="76">
                  <a:moveTo>
                    <a:pt x="0" y="14"/>
                  </a:moveTo>
                  <a:cubicBezTo>
                    <a:pt x="69" y="24"/>
                    <a:pt x="265" y="76"/>
                    <a:pt x="414" y="74"/>
                  </a:cubicBezTo>
                  <a:cubicBezTo>
                    <a:pt x="563" y="72"/>
                    <a:pt x="739" y="4"/>
                    <a:pt x="894" y="2"/>
                  </a:cubicBezTo>
                  <a:cubicBezTo>
                    <a:pt x="1049" y="0"/>
                    <a:pt x="1250" y="50"/>
                    <a:pt x="1344" y="6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13400" y="4818240"/>
              <a:ext cx="87120" cy="43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1" name="" descr=""/>
          <p:cNvPicPr/>
          <p:nvPr/>
        </p:nvPicPr>
        <p:blipFill>
          <a:blip r:embed="rId8"/>
          <a:stretch/>
        </p:blipFill>
        <p:spPr>
          <a:xfrm>
            <a:off x="3648240" y="4686480"/>
            <a:ext cx="2295360" cy="17906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9"/>
          <a:stretch/>
        </p:blipFill>
        <p:spPr>
          <a:xfrm>
            <a:off x="6477120" y="4038480"/>
            <a:ext cx="1981080" cy="233388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10"/>
          <a:stretch/>
        </p:blipFill>
        <p:spPr>
          <a:xfrm>
            <a:off x="2590920" y="28195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25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62940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823 -0.69306 L 0.3592 -0.59306 L 0.29409 -0.27755 L 0.0342 -0.25532 L 3.33333E-006 7.40741E-007 E">
                                      <p:cBhvr>
                                        <p:cTn id="190" dur="5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6280" y="1568520"/>
            <a:ext cx="8763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00000"/>
                </a:solidFill>
                <a:latin typeface="Arial Rounded MT Bold"/>
              </a:rPr>
              <a:t>The pig is in front of the bath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565280" y="3440160"/>
            <a:ext cx="5063760" cy="2808000"/>
            <a:chOff x="1565280" y="3440160"/>
            <a:chExt cx="5063760" cy="2808000"/>
          </a:xfrm>
        </p:grpSpPr>
        <p:sp>
          <p:nvSpPr>
            <p:cNvPr id="636" name=""/>
            <p:cNvSpPr/>
            <p:nvPr/>
          </p:nvSpPr>
          <p:spPr>
            <a:xfrm flipH="1">
              <a:off x="5447880" y="5286600"/>
              <a:ext cx="94068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62400" y="528660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2190240" y="3440160"/>
              <a:ext cx="602280" cy="704520"/>
              <a:chOff x="2190240" y="3440160"/>
              <a:chExt cx="602280" cy="704520"/>
            </a:xfrm>
          </p:grpSpPr>
          <p:sp>
            <p:nvSpPr>
              <p:cNvPr id="639" name=""/>
              <p:cNvSpPr/>
              <p:nvPr/>
            </p:nvSpPr>
            <p:spPr>
              <a:xfrm>
                <a:off x="219024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2236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6200000">
                <a:off x="217512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32236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1667880" y="3440160"/>
              <a:ext cx="602280" cy="704520"/>
              <a:chOff x="1667880" y="3440160"/>
              <a:chExt cx="602280" cy="704520"/>
            </a:xfrm>
          </p:grpSpPr>
          <p:sp>
            <p:nvSpPr>
              <p:cNvPr id="644" name=""/>
              <p:cNvSpPr/>
              <p:nvPr/>
            </p:nvSpPr>
            <p:spPr>
              <a:xfrm>
                <a:off x="166788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80000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6200000">
                <a:off x="165276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0000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1565280" y="4055760"/>
              <a:ext cx="4987080" cy="1837080"/>
            </a:xfrm>
            <a:custGeom>
              <a:avLst/>
              <a:gdLst/>
              <a:ahLst/>
              <a:rect l="l" t="t" r="r" b="b"/>
              <a:pathLst>
                <a:path w="3245" h="1196">
                  <a:moveTo>
                    <a:pt x="521" y="87"/>
                  </a:moveTo>
                  <a:cubicBezTo>
                    <a:pt x="70" y="122"/>
                    <a:pt x="117" y="0"/>
                    <a:pt x="50" y="288"/>
                  </a:cubicBezTo>
                  <a:cubicBezTo>
                    <a:pt x="0" y="438"/>
                    <a:pt x="82" y="847"/>
                    <a:pt x="223" y="989"/>
                  </a:cubicBezTo>
                  <a:cubicBezTo>
                    <a:pt x="364" y="1131"/>
                    <a:pt x="522" y="1114"/>
                    <a:pt x="895" y="1143"/>
                  </a:cubicBezTo>
                  <a:cubicBezTo>
                    <a:pt x="1268" y="1172"/>
                    <a:pt x="2103" y="1196"/>
                    <a:pt x="2460" y="1162"/>
                  </a:cubicBezTo>
                  <a:cubicBezTo>
                    <a:pt x="2817" y="1128"/>
                    <a:pt x="2913" y="1088"/>
                    <a:pt x="3036" y="941"/>
                  </a:cubicBezTo>
                  <a:cubicBezTo>
                    <a:pt x="3159" y="794"/>
                    <a:pt x="3245" y="423"/>
                    <a:pt x="3199" y="279"/>
                  </a:cubicBezTo>
                  <a:cubicBezTo>
                    <a:pt x="3153" y="135"/>
                    <a:pt x="3203" y="109"/>
                    <a:pt x="2757" y="77"/>
                  </a:cubicBezTo>
                  <a:cubicBezTo>
                    <a:pt x="2311" y="45"/>
                    <a:pt x="987" y="85"/>
                    <a:pt x="521" y="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12440" y="4071240"/>
              <a:ext cx="5016600" cy="294840"/>
            </a:xfrm>
            <a:prstGeom prst="flowChartTermina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16920" y="539856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079960" y="5398560"/>
              <a:ext cx="9403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53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05720" y="2438280"/>
            <a:ext cx="167616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2"/>
          <a:stretch/>
        </p:blipFill>
        <p:spPr>
          <a:xfrm>
            <a:off x="920880" y="4086360"/>
            <a:ext cx="159372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-0.60116 C -0.18837 -0.62176 -0.1757 -0.64213 -0.17118 -0.64213 C -0.14323 -0.64213 -0.11476 -0.31991 -0.11476 0.00231 C -0.11476 -0.16019 -0.10018 -0.31991 -0.08681 -0.31991 C -0.0724 -0.31991 -0.05868 -0.15764 -0.05868 0.00231 C -0.05868 -0.07801 -0.05157 -0.16019 -0.04445 -0.16019 C -0.03716 -0.16019 -0.03004 -0.0801 -0.03004 0.00231 C -0.03004 -0.03889 -0.02639 -0.07801 -0.02292 -0.07801 C -0.01927 -0.07801 -0.01563 -0.03681 -0.01563 0.00231 C -0.01563 -0.01829 -0.01389 -0.03889 -0.01216 -0.03889 C -0.01111 -0.03889 -0.00851 -0.01829 -0.00851 0.00231 C -0.00851 -0.00811 -0.00764 -0.01829 -0.0066 -0.01829 C -0.0066 -0.01575 -0.00469 -0.00811 -0.00469 0.00231 C -0.00469 -0.00325 -0.00469 -0.00811 -0.00382 -0.00811 C -0.00382 -0.00533 -0.00295 -0.00278 -0.00295 0.00231 C -0.00295 -0.00047 -0.00295 -0.00325 -0.00295 -0.00533 C -0.00191 -0.00533 -0.00191 -0.00278 -0.00191 4.81481E-006 C -0.00104 4.81481E-006 -0.00104 -0.00278 -0.00104 -0.00533 C 3.33333000000009E-006 -0.00533 3.33333E-006 -0.00278 3.33333E-006 4.81481E-006 E">
                                      <p:cBhvr>
                                        <p:cTn id="236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06280" y="1568520"/>
            <a:ext cx="8763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00000"/>
                </a:solidFill>
                <a:latin typeface="Arial Rounded MT Bold"/>
              </a:rPr>
              <a:t>The giraffe is under the bath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6"/>
          <a:stretch/>
        </p:blipFill>
        <p:spPr>
          <a:xfrm>
            <a:off x="2438280" y="2438280"/>
            <a:ext cx="1758960" cy="3124440"/>
          </a:xfrm>
          <a:prstGeom prst="rect">
            <a:avLst/>
          </a:prstGeom>
          <a:ln w="0">
            <a:noFill/>
          </a:ln>
        </p:spPr>
      </p:pic>
      <p:grpSp>
        <p:nvGrpSpPr>
          <p:cNvPr id="665" name=""/>
          <p:cNvGrpSpPr/>
          <p:nvPr/>
        </p:nvGrpSpPr>
        <p:grpSpPr>
          <a:xfrm>
            <a:off x="1641600" y="3440160"/>
            <a:ext cx="5063760" cy="2808000"/>
            <a:chOff x="1641600" y="3440160"/>
            <a:chExt cx="5063760" cy="2808000"/>
          </a:xfrm>
        </p:grpSpPr>
        <p:sp>
          <p:nvSpPr>
            <p:cNvPr id="666" name=""/>
            <p:cNvSpPr/>
            <p:nvPr/>
          </p:nvSpPr>
          <p:spPr>
            <a:xfrm flipH="1">
              <a:off x="5524200" y="5286600"/>
              <a:ext cx="94068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38720" y="528660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2266560" y="3440160"/>
              <a:ext cx="602280" cy="704520"/>
              <a:chOff x="2266560" y="3440160"/>
              <a:chExt cx="602280" cy="704520"/>
            </a:xfrm>
          </p:grpSpPr>
          <p:sp>
            <p:nvSpPr>
              <p:cNvPr id="669" name=""/>
              <p:cNvSpPr/>
              <p:nvPr/>
            </p:nvSpPr>
            <p:spPr>
              <a:xfrm>
                <a:off x="226656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9868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200000">
                <a:off x="225144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39868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1744200" y="3440160"/>
              <a:ext cx="602280" cy="704520"/>
              <a:chOff x="1744200" y="3440160"/>
              <a:chExt cx="602280" cy="704520"/>
            </a:xfrm>
          </p:grpSpPr>
          <p:sp>
            <p:nvSpPr>
              <p:cNvPr id="674" name=""/>
              <p:cNvSpPr/>
              <p:nvPr/>
            </p:nvSpPr>
            <p:spPr>
              <a:xfrm>
                <a:off x="174420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7632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6200000">
                <a:off x="172908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87632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1641600" y="4055760"/>
              <a:ext cx="4987080" cy="1837080"/>
            </a:xfrm>
            <a:custGeom>
              <a:avLst/>
              <a:gdLst/>
              <a:ahLst/>
              <a:rect l="l" t="t" r="r" b="b"/>
              <a:pathLst>
                <a:path w="3245" h="1196">
                  <a:moveTo>
                    <a:pt x="521" y="87"/>
                  </a:moveTo>
                  <a:cubicBezTo>
                    <a:pt x="70" y="122"/>
                    <a:pt x="117" y="0"/>
                    <a:pt x="50" y="288"/>
                  </a:cubicBezTo>
                  <a:cubicBezTo>
                    <a:pt x="0" y="438"/>
                    <a:pt x="82" y="847"/>
                    <a:pt x="223" y="989"/>
                  </a:cubicBezTo>
                  <a:cubicBezTo>
                    <a:pt x="364" y="1131"/>
                    <a:pt x="522" y="1114"/>
                    <a:pt x="895" y="1143"/>
                  </a:cubicBezTo>
                  <a:cubicBezTo>
                    <a:pt x="1268" y="1172"/>
                    <a:pt x="2103" y="1196"/>
                    <a:pt x="2460" y="1162"/>
                  </a:cubicBezTo>
                  <a:cubicBezTo>
                    <a:pt x="2817" y="1128"/>
                    <a:pt x="2913" y="1088"/>
                    <a:pt x="3036" y="941"/>
                  </a:cubicBezTo>
                  <a:cubicBezTo>
                    <a:pt x="3159" y="794"/>
                    <a:pt x="3245" y="423"/>
                    <a:pt x="3199" y="279"/>
                  </a:cubicBezTo>
                  <a:cubicBezTo>
                    <a:pt x="3153" y="135"/>
                    <a:pt x="3203" y="109"/>
                    <a:pt x="2757" y="77"/>
                  </a:cubicBezTo>
                  <a:cubicBezTo>
                    <a:pt x="2311" y="45"/>
                    <a:pt x="987" y="85"/>
                    <a:pt x="521" y="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88760" y="4071240"/>
              <a:ext cx="5016600" cy="294840"/>
            </a:xfrm>
            <a:prstGeom prst="flowChartTermina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93240" y="539856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5156280" y="5398560"/>
              <a:ext cx="9403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920880" y="4086360"/>
            <a:ext cx="1593720" cy="246672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84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816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333 -0.51805 C -0.37673 -0.53564 -0.35139 -0.55324 -0.34236 -0.55324 C -0.28663 -0.55324 -0.22951 -0.27546 -0.22951 0.00232 C -0.22951 -0.13796 -0.20052 -0.27546 -0.17361 -0.27546 C -0.14496 -0.27546 -0.11753 -0.13564 -0.11753 0.00232 C -0.11753 -0.06713 -0.10312 -0.13796 -0.08889 -0.13796 C -0.07448 -0.13796 -0.06007 -0.06898 -0.06007 0.00232 C -0.06007 -0.03333 -0.05295 -0.06713 -0.04583 -0.06713 C -0.03854 -0.06713 -0.03142 -0.03148 -0.03142 0.00232 C -0.03142 -0.01574 -0.02777 -0.03333 -0.0243 -0.03333 C -0.02239 -0.03333 -0.01718 -0.01574 -0.01718 0.00232 C -0.01718 -0.00694 -0.01527 -0.01574 -0.01336 -0.01574 C -0.01336 -0.01342 -0.00972 -0.00694 -0.00972 0.00232 C -0.00972 -0.00231 -0.00972 -0.00694 -0.00781 -0.00694 C -0.00781 -0.00463 -0.0059 -0.00231 -0.0059 0.00232 C -0.0059 -4.0740699999999E-006 -0.0059 -0.00231 -0.0059 -0.00463 C -0.00399 -0.00463 -0.00399 -0.00231 -0.00399 -4.07407E-006 C -0.00225 -4.07407E-006 -0.00225 -0.00231 -0.00225 -0.00463 C -3.33332999999988E-006 -0.00463 -3.33333E-006 -0.00231 -3.33333E-006 -4.07407E-006 E">
                                      <p:cBhvr>
                                        <p:cTn id="282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06280" y="1568520"/>
            <a:ext cx="8763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00000"/>
                </a:solidFill>
                <a:latin typeface="Arial Rounded MT Bold"/>
              </a:rPr>
              <a:t>The parrot is on the bath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6"/>
          <a:stretch/>
        </p:blipFill>
        <p:spPr>
          <a:xfrm>
            <a:off x="2438280" y="2438280"/>
            <a:ext cx="1758960" cy="3124440"/>
          </a:xfrm>
          <a:prstGeom prst="rect">
            <a:avLst/>
          </a:prstGeom>
          <a:ln w="0">
            <a:noFill/>
          </a:ln>
        </p:spPr>
      </p:pic>
      <p:grpSp>
        <p:nvGrpSpPr>
          <p:cNvPr id="695" name=""/>
          <p:cNvGrpSpPr/>
          <p:nvPr/>
        </p:nvGrpSpPr>
        <p:grpSpPr>
          <a:xfrm>
            <a:off x="1562040" y="3440160"/>
            <a:ext cx="5063760" cy="2808000"/>
            <a:chOff x="1562040" y="3440160"/>
            <a:chExt cx="5063760" cy="2808000"/>
          </a:xfrm>
        </p:grpSpPr>
        <p:sp>
          <p:nvSpPr>
            <p:cNvPr id="696" name=""/>
            <p:cNvSpPr/>
            <p:nvPr/>
          </p:nvSpPr>
          <p:spPr>
            <a:xfrm flipH="1">
              <a:off x="5444640" y="5286600"/>
              <a:ext cx="94068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59160" y="528660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187000" y="3440160"/>
              <a:ext cx="602280" cy="704520"/>
              <a:chOff x="2187000" y="3440160"/>
              <a:chExt cx="602280" cy="704520"/>
            </a:xfrm>
          </p:grpSpPr>
          <p:sp>
            <p:nvSpPr>
              <p:cNvPr id="699" name=""/>
              <p:cNvSpPr/>
              <p:nvPr/>
            </p:nvSpPr>
            <p:spPr>
              <a:xfrm>
                <a:off x="218700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31912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6200000">
                <a:off x="217188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31912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1664640" y="3440160"/>
              <a:ext cx="602280" cy="704520"/>
              <a:chOff x="1664640" y="3440160"/>
              <a:chExt cx="602280" cy="704520"/>
            </a:xfrm>
          </p:grpSpPr>
          <p:sp>
            <p:nvSpPr>
              <p:cNvPr id="704" name=""/>
              <p:cNvSpPr/>
              <p:nvPr/>
            </p:nvSpPr>
            <p:spPr>
              <a:xfrm>
                <a:off x="166464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79676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6200000">
                <a:off x="164952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79676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1562040" y="4055760"/>
              <a:ext cx="4987080" cy="1837080"/>
            </a:xfrm>
            <a:custGeom>
              <a:avLst/>
              <a:gdLst/>
              <a:ahLst/>
              <a:rect l="l" t="t" r="r" b="b"/>
              <a:pathLst>
                <a:path w="3245" h="1196">
                  <a:moveTo>
                    <a:pt x="521" y="87"/>
                  </a:moveTo>
                  <a:cubicBezTo>
                    <a:pt x="70" y="122"/>
                    <a:pt x="117" y="0"/>
                    <a:pt x="50" y="288"/>
                  </a:cubicBezTo>
                  <a:cubicBezTo>
                    <a:pt x="0" y="438"/>
                    <a:pt x="82" y="847"/>
                    <a:pt x="223" y="989"/>
                  </a:cubicBezTo>
                  <a:cubicBezTo>
                    <a:pt x="364" y="1131"/>
                    <a:pt x="522" y="1114"/>
                    <a:pt x="895" y="1143"/>
                  </a:cubicBezTo>
                  <a:cubicBezTo>
                    <a:pt x="1268" y="1172"/>
                    <a:pt x="2103" y="1196"/>
                    <a:pt x="2460" y="1162"/>
                  </a:cubicBezTo>
                  <a:cubicBezTo>
                    <a:pt x="2817" y="1128"/>
                    <a:pt x="2913" y="1088"/>
                    <a:pt x="3036" y="941"/>
                  </a:cubicBezTo>
                  <a:cubicBezTo>
                    <a:pt x="3159" y="794"/>
                    <a:pt x="3245" y="423"/>
                    <a:pt x="3199" y="279"/>
                  </a:cubicBezTo>
                  <a:cubicBezTo>
                    <a:pt x="3153" y="135"/>
                    <a:pt x="3203" y="109"/>
                    <a:pt x="2757" y="77"/>
                  </a:cubicBezTo>
                  <a:cubicBezTo>
                    <a:pt x="2311" y="45"/>
                    <a:pt x="987" y="85"/>
                    <a:pt x="521" y="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609200" y="4071240"/>
              <a:ext cx="5016600" cy="294840"/>
            </a:xfrm>
            <a:prstGeom prst="flowChartTermina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13680" y="539856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5076720" y="5398560"/>
              <a:ext cx="9403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2" name="" descr=""/>
          <p:cNvPicPr/>
          <p:nvPr/>
        </p:nvPicPr>
        <p:blipFill>
          <a:blip r:embed="rId7"/>
          <a:stretch/>
        </p:blipFill>
        <p:spPr>
          <a:xfrm>
            <a:off x="920880" y="4086360"/>
            <a:ext cx="1593720" cy="246672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14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2971800" y="480060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16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4"/>
          <a:stretch/>
        </p:blipFill>
        <p:spPr>
          <a:xfrm>
            <a:off x="5676840" y="2286000"/>
            <a:ext cx="10288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167 -0.425 C -0.67934 -0.43958 -0.63386 -0.45393 -0.61754 -0.45393 C -0.51667 -0.45393 -0.41372 -0.22616 -0.41372 0.00162 C -0.41372 -0.11343 -0.36146 -0.22616 -0.31302 -0.22616 C -0.26129 -0.22616 -0.21164 -0.11134 -0.21164 0.00162 C -0.21164 -0.05509 -0.18577 -0.11343 -0.1599 -0.11343 C -0.13403 -0.11343 -0.10816 -0.05671 -0.10816 0.00162 C -0.10816 -0.02755 -0.09514 -0.05509 -0.08229 -0.05509 C -0.06927 -0.05509 -0.05643 -0.02593 -0.05643 0.00162 C -0.05643 -0.01296 -0.04966 -0.02755 -0.04341 -0.02755 C -0.04011 -0.02755 -0.03056 -0.01296 -0.03056 0.00162 C -0.03056 -0.00579 -0.02709 -0.01296 -0.02379 -0.01296 C -0.02379 -0.01111 -0.01702 -0.00579 -0.01702 0.00162 C -0.01702 -0.00231 -0.01702 -0.00579 -0.01354 -0.00579 C -0.01354 -0.00393 -0.01025 -0.00208 -0.01025 0.00162 C -0.01025 -0.00046 -0.01025 -0.00231 -0.01025 -0.00393 C -0.00677 -0.00393 -0.00677 -0.00208 -0.00677 -7.40741E-007 C -0.00348 -7.40741E-007 -0.00348 -0.00208 -0.00348 -0.00393 C 3.33332999999988E-006 -0.00393 3.33333E-006 -0.00208 3.33333E-006 -7.40741E-007 E">
                                      <p:cBhvr>
                                        <p:cTn id="328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0T20:46:25Z</dcterms:created>
  <dc:creator>Gabi</dc:creator>
  <dc:description/>
  <dc:language>en-US</dc:language>
  <cp:lastModifiedBy>Gabi</cp:lastModifiedBy>
  <dcterms:modified xsi:type="dcterms:W3CDTF">2009-05-30T20:46:32Z</dcterms:modified>
  <cp:revision>1</cp:revision>
  <dc:subject/>
  <dc:title>Slide 1</dc:title>
</cp:coreProperties>
</file>